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310-62C8-4E72-97C3-F78DD556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2E2-9095-43B3-AD9C-AA0E5F9E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567-E915-48E8-AA9B-104DB894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D5E-8B77-4C3A-9202-9290C366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D3C-9FD2-4483-BA98-15E689D9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56E9-46B5-46CB-AFBC-9F95CCDB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181-1BA1-44F2-859E-AC139C44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84D-4DCF-41C7-8073-166B4A69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2E4-5584-4EB7-B644-ED400F24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5EF-0CDD-4CBC-B9DC-4A39EDF2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5D10-0BCD-4AF5-A7A9-D48969A9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56C0-4FD5-4B9F-B7AA-665C3D9A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07B6-E1AC-4486-BE08-C9E546252BA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971640" y="2349000"/>
            <a:ext cx="7704000" cy="424836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орядок разработки «Декларации пожарной безопасност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116000" y="11970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6 марта 2009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115920"/>
            <a:ext cx="88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ы оценки пожарного риска используют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обоснования обеспечения на производственном объекте допустимых значений пожарного риска, установленных ФЗ №123-ФЗ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ринятия решений по разработке дополнительных мер по снижению пожарной опасности производственного объекта в случае превышения одними или несколькими расчетными значениями пожарных рисков допустимых величин, установленных ФЗ №123-ФЗ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разработке проектной документации и проведении государственной экспертизы по пожарной безопас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9280" y="1341360"/>
            <a:ext cx="8713800" cy="325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ОБЩИЕ ПОЛОЖ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Целью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ценки пожарного риска являет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пределение уровня пожарной опасности производственного объек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Количественной мер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ровня пожарной опасности производственных объектов являет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иск гибели людей при пожара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 том числ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иск гибели персонал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оизводственного объекта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иск гибели люд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находящихся в селитебной зоне вблизи производственного объекта (населения, проживающего на прилегающей к производственному объекту территории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Риск гибели люд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 авариях с пожарами на производственных объектах характеризует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числовыми значениям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ндивидуального и социального пожарных рис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4" descr="рБЖД5ок08сварка2"/>
          <p:cNvPicPr/>
          <p:nvPr/>
        </p:nvPicPr>
        <p:blipFill>
          <a:blip r:embed="rId1"/>
          <a:stretch/>
        </p:blipFill>
        <p:spPr>
          <a:xfrm>
            <a:off x="324000" y="2781360"/>
            <a:ext cx="8424720" cy="382248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  <p:sp>
        <p:nvSpPr>
          <p:cNvPr id="58" name="AutoShape 29"/>
          <p:cNvSpPr/>
          <p:nvPr/>
        </p:nvSpPr>
        <p:spPr>
          <a:xfrm>
            <a:off x="539640" y="5734080"/>
            <a:ext cx="1800360" cy="430200"/>
          </a:xfrm>
          <a:prstGeom prst="downArrow">
            <a:avLst>
              <a:gd name="adj1" fmla="val 51324"/>
              <a:gd name="adj2" fmla="val 57963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AutoShape 28"/>
          <p:cNvSpPr/>
          <p:nvPr/>
        </p:nvSpPr>
        <p:spPr>
          <a:xfrm>
            <a:off x="2700360" y="3645000"/>
            <a:ext cx="1800360" cy="576000"/>
          </a:xfrm>
          <a:prstGeom prst="downArrow">
            <a:avLst>
              <a:gd name="adj1" fmla="val 51241"/>
              <a:gd name="adj2" fmla="val 45694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AutoShape 27"/>
          <p:cNvSpPr/>
          <p:nvPr/>
        </p:nvSpPr>
        <p:spPr>
          <a:xfrm>
            <a:off x="250920" y="3645000"/>
            <a:ext cx="1800000" cy="576000"/>
          </a:xfrm>
          <a:prstGeom prst="downArrow">
            <a:avLst>
              <a:gd name="adj1" fmla="val 51241"/>
              <a:gd name="adj2" fmla="val 45694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AutoShape 26"/>
          <p:cNvSpPr/>
          <p:nvPr/>
        </p:nvSpPr>
        <p:spPr>
          <a:xfrm>
            <a:off x="6227640" y="2565360"/>
            <a:ext cx="2305080" cy="576360"/>
          </a:xfrm>
          <a:prstGeom prst="downArrow">
            <a:avLst>
              <a:gd name="adj1" fmla="val 51241"/>
              <a:gd name="adj2" fmla="val 45694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79280" y="1268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ПОЛЬЗОВАНИЕ ПОЖАРНОГО РИСКА ПРИ ДЕКЛАРИРОВАНИИ ПРОИЗВОДСТВЕННЫХ ОБЪЕКТОВ ПО ПОЖАРНОЙ БЕЗОПАС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50920" y="1989000"/>
            <a:ext cx="8569080" cy="52020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кт в </a:t>
            </a: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полном объем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отвечает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требования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Федеральных законов о технических регламентах и нормативных документов по пожарной безопасно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50920" y="3141720"/>
            <a:ext cx="4105080" cy="489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ичество пожароопасных веществ на объекте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больше порогового знач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4788000" y="3141720"/>
            <a:ext cx="4105080" cy="85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рабатывается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декларац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в которой указывается только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еречень требований пожарной безопасности для конкретного производственного объек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179280" y="4221000"/>
            <a:ext cx="2592360" cy="1525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зрабатываются и согласовываются в установленном порядке </a:t>
            </a:r>
            <a:r>
              <a:rPr b="1" lang="ru-RU" sz="1000" spc="-1" strike="noStrike">
                <a:solidFill>
                  <a:srgbClr val="cc0000"/>
                </a:solidFill>
                <a:latin typeface="Arial"/>
              </a:rPr>
              <a:t>специальные технические условия по пожарной безопасност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. При выполнении требований специальных технических условий объект </a:t>
            </a:r>
            <a:r>
              <a:rPr b="1" lang="ru-RU" sz="1000" spc="-1" strike="noStrike">
                <a:solidFill>
                  <a:srgbClr val="000099"/>
                </a:solidFill>
                <a:latin typeface="Arial"/>
              </a:rPr>
              <a:t>отвечает нормативным значениям пожарного риска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. Расчет риска </a:t>
            </a:r>
            <a:r>
              <a:rPr b="1" lang="ru-RU" sz="1000" spc="-1" strike="noStrike">
                <a:solidFill>
                  <a:srgbClr val="cc0000"/>
                </a:solidFill>
                <a:latin typeface="Arial"/>
              </a:rPr>
              <a:t>не производитс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AutoShape 18"/>
          <p:cNvSpPr/>
          <p:nvPr/>
        </p:nvSpPr>
        <p:spPr>
          <a:xfrm>
            <a:off x="1116000" y="2565360"/>
            <a:ext cx="2305080" cy="576360"/>
          </a:xfrm>
          <a:prstGeom prst="downArrow">
            <a:avLst>
              <a:gd name="adj1" fmla="val 51380"/>
              <a:gd name="adj2" fmla="val 47681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692360" y="2565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877080" y="2565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611280" y="3645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3203640" y="3573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2987640" y="4221000"/>
            <a:ext cx="1368360" cy="121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водятся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расчеты пожарного риска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торые включаются в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декларацию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AutoShape 30"/>
          <p:cNvSpPr/>
          <p:nvPr/>
        </p:nvSpPr>
        <p:spPr>
          <a:xfrm>
            <a:off x="2771640" y="5661000"/>
            <a:ext cx="1800360" cy="503280"/>
          </a:xfrm>
          <a:prstGeom prst="downArrow">
            <a:avLst>
              <a:gd name="adj1" fmla="val 51324"/>
              <a:gd name="adj2" fmla="val 49213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AutoShape 31"/>
          <p:cNvSpPr/>
          <p:nvPr/>
        </p:nvSpPr>
        <p:spPr>
          <a:xfrm>
            <a:off x="6300720" y="4076640"/>
            <a:ext cx="1800360" cy="2089080"/>
          </a:xfrm>
          <a:prstGeom prst="downArrow">
            <a:avLst>
              <a:gd name="adj1" fmla="val 58028"/>
              <a:gd name="adj2" fmla="val 16412"/>
            </a:avLst>
          </a:prstGeom>
          <a:solidFill>
            <a:srgbClr val="0000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6659640" y="5229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250920" y="6165720"/>
            <a:ext cx="8642160" cy="368280"/>
          </a:xfrm>
          <a:prstGeom prst="rect">
            <a:avLst/>
          </a:prstGeom>
          <a:solidFill>
            <a:srgbClr val="ffffcc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ТВЕЧА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ОРМАТИВНЫМ ЗНАЧЕНИЯМ ПОЖАРНОГО РИС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4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8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14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8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98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40"/>
          <p:cNvSpPr/>
          <p:nvPr/>
        </p:nvSpPr>
        <p:spPr>
          <a:xfrm>
            <a:off x="395280" y="836640"/>
            <a:ext cx="828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СПОЛЬЗОВАНИЕ ПОЖАРНОГО РИСКА ПРИ ДЕКЛАРИРОВАНИИ ПРОИЗВОДСТВЕННЫХ ОБЪЕКТОВ ПО ПОЖАРНОЙ БЕЗОПАСНОСТ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24000" y="1413000"/>
          <a:ext cx="8496000" cy="5290920"/>
        </p:xfrm>
        <a:graphic>
          <a:graphicData uri="http://schemas.openxmlformats.org/drawingml/2006/table">
            <a:tbl>
              <a:tblPr/>
              <a:tblGrid>
                <a:gridCol w="5400360"/>
                <a:gridCol w="3095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веще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оговое значение, тон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5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рючие газ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Легковоспламеняющиеся и горючие жидк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рючие пыли и волок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вердые горючие веще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рючие жидкости, находящиеся на товарно-сырьевых складах и баз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                                              2000                                             3000                                          5000                             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объ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мощность установ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ъекты сбора, подготовки и переработки неф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ъекты сбора, подготовки и переработки г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млн. тонн в год и более    3 млрд. м</a:t>
                      </a:r>
                      <a:r>
                        <a:rPr b="1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 год и 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0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расстояние между объектами </a:t>
                      </a: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менее 500 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учитываются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уммарные количества веществ (материалов), находящихся на них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имеется </a:t>
                      </a: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сколько видов горючих веществ (материал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то превышение порогового значения определяется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словие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&gt;1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г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ж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количества горючих газов, легковоспламеняющихся и горючих жидкостей, горючих пылей, волокон и твёрдых горючих материалов, соответственно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г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ж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п</a:t>
                      </a: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1200" spc="-1" strike="noStrike" baseline="-25000">
                          <a:solidFill>
                            <a:srgbClr val="cc0000"/>
                          </a:solidFill>
                          <a:latin typeface="Arial"/>
                        </a:rPr>
                        <a:t>пор.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оответствующие пороговые значения количеств указанных веществ (материалов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Object 1"/>
              <p:cNvSpPr txBox="1"/>
              <p:nvPr/>
            </p:nvSpPr>
            <p:spPr>
              <a:xfrm>
                <a:off x="2050920" y="5229360"/>
                <a:ext cx="3025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г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г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ж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ж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п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Rectangle 138"/>
          <p:cNvSpPr/>
          <p:nvPr/>
        </p:nvSpPr>
        <p:spPr>
          <a:xfrm>
            <a:off x="179280" y="189000"/>
            <a:ext cx="8785440" cy="64764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 Курс «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0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24000" y="1413000"/>
            <a:ext cx="8820000" cy="37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ья 64. Требования к декларации пожарной безопас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Декларация   пожарной   безопасности   составляется   в   отношении объектов защиты, для которых законодательством Российской Федерации о градостроительной деятельности предусмотрено проведение государственной экспертизы    проектной    документации,    а   также    для    зданий    класс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ональной пожарной опасности Ф1.1 и предусматривае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у пожарного риска (если проводится расчет риска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у возможного ущерба имуществу третьих лиц от пожара (может быть проведена в рамках добровольного страхования ответственности за ущерб третьим лицам от воздействия пожара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0" y="46188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рма декларации пожарной безопасности производственных объе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рмативное обеспечение реализации положени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Федерального закона от 22 июля 2008 г. №123-ФЗ «Технический регламент о требованиях пожарной безопасности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тап 4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«Разработка нормативного документа, устанавливающег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бования к оформлению декларации пожарной безопасности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46188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КА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_______________                               Москва                                         №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 утверждении Формы и Порядка регистрации декларации пожарной безопас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соответствии со статьей 64 Федерального закона от 22 июля 2008 г. № 123-ФЗ "Технический регламент о требованиях пожарной безопасности"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1" action="ppaction://hlinksldjump"/>
              </a:rPr>
              <a:t>[1]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 в целях повышения уровня пожарной безопасности объектов защиты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 р и к а з ы в а ю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Утвердить Форму декларации пожарной безопасности согласно приложению №1  к настоящему приказ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Утвердить Порядок регистрации декларации пожарной безопасности  согласно приложению №2 к настоящему приказ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инистр                                           С.К. Шойгу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419640" y="1413000"/>
            <a:ext cx="5400360" cy="52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е требования к декларации пожарной безопасности приведены в статье 64 Федерального закона № 123-ФЗ «Технический регламент о требованиях пожарной безопасности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труктура                                                             декларации пожарной безопасност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оизводственных объектов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итульный л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анные об организац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разработчике деклар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главл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 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Общие сведения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Результаты анализа пожарной безопасност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6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 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Обеспечение требований пожарной  безопасност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7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лож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Оценка пожарного риска» (включается в декларацию при проведении оценки пожарного риск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50920" y="1413000"/>
            <a:ext cx="2376360" cy="3179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кларация пожарной безопасности производственного объ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титульный лис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24000" y="1484280"/>
            <a:ext cx="2376360" cy="3274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нные об организации – разработчике деклар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95280" y="1557360"/>
            <a:ext cx="2376360" cy="3286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глав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68360" y="1628640"/>
            <a:ext cx="2376360" cy="3286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е свед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39640" y="1700280"/>
            <a:ext cx="2376720" cy="3232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зультаты анализа пожарной безопас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11280" y="1773360"/>
            <a:ext cx="2376360" cy="3276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еспечение требований пожарной безопас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84360" y="1844640"/>
            <a:ext cx="2376360" cy="3331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лож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ценка пожарного рис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24000" y="2133720"/>
            <a:ext cx="2376360" cy="3286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аздел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е свед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95280" y="2205000"/>
            <a:ext cx="2376360" cy="2925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1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олно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сокращенное наименование эксплуатирующей организац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(или заказчика проекта)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роектной организац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(для проектируемых производственных объектов)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собственник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владеющего производственным объект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348000" y="1916280"/>
            <a:ext cx="5545080" cy="47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здел 1 «Общие сведения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лно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кращенное наименование эксплуатирующе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или заказчика проекта)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оектно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для проектируемых производственных объектов)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бственни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лиц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ладеющего производственным объекто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аименование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ышестояще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при наличии таковой) с указанием адреса, телефон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амил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инициал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олжности руководител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рганизации, полный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чтов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электронн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адрес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телефо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ак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рганизац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раткий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еречень основных направлений деятельности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связанных с эксплуатацией декларируемого производственного объек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1.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ведения о месторасположен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кларируемого производственного объек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68360" y="2276640"/>
            <a:ext cx="2376360" cy="3163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1.2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Наименование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вышестояще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при наличии таковой) с указанием адреса, телефон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9640" y="2349360"/>
            <a:ext cx="2376720" cy="2827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3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Фамил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инициалы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должности руководителе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организации, полный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очтовы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электронны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адрес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телефон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фак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организаци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11280" y="2421000"/>
            <a:ext cx="2376360" cy="3070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4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Краткий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перечень основных направлений деятельности организац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связанных с эксплуатацией декларируемого производственного объек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50920" y="112536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ечень сведений, включаемых в декларацию пожарной безопас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84360" y="2492280"/>
            <a:ext cx="2376360" cy="3049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1.5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Сведения о месторасположен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декларируемого производственного объект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5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627280" y="2349360"/>
            <a:ext cx="6265800" cy="43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зделе 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«Результаты анализа пожарной безопасности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екларации при выполнении в полном объеме установленных требований пожарной безопасности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онстатируется факт выполн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указанных требований. В этом случае какая-либо другая информация в разделе 2 не приводит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зделе 3 «Обеспечение требований пожарной безопасности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иводится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олько перечень нормативных документов, регламентирующих выполненные треб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жарной безопасности для конкретного  объекта (при необходимости с указанием пунктов документов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50920" y="126828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чень сведений,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включаемых в декларацию пожарной безопасности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(продолжение)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-  пр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ыполнении в полном объем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тановленных требований пожарной безопас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79280" y="2492280"/>
            <a:ext cx="2305080" cy="2796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Раздел 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зультаты анализа пожарной безопасности</a:t>
            </a: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50920" y="2637000"/>
            <a:ext cx="2305080" cy="2796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Раздел 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еспечение требований пожарной безопасности</a:t>
            </a:r>
            <a:r>
              <a:rPr b="1" lang="ru-RU" sz="1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79280" y="1341360"/>
            <a:ext cx="8785440" cy="46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ОНЯТИЕ ПОЖАРНОГО РИСКА В НОРМАТИВНЫХ</a:t>
            </a:r>
            <a:br>
              <a:rPr sz="1600"/>
            </a:b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РАВОВЫХ АКТАХ РОССИЙСКОЙ ФЕДЕР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2 июля 2008 г. № 123-ФЗ «Технический регламент о требованиях пожарной безопасности» устанавлива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атье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понятия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жарного риск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допустимого пожарного риск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индивидуальног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оциального пожарного рис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ункте 7 статьи 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рядок проведения расчет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 оценке пожарного риска определяется нормативными правовыми актами Российской Федерац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атьях 7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9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нормативные значения пожарного рис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ем Правительства Российской Федерации  от 16 февраля 2008 г. № 87 «О составе разделов проектной документации и требованиях к их содержанию» (п.п. м) п. 26 и 41)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счеты пожарного рис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гламентированы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качестве обязательной ча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оектной документации на объекты капитального строительства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 невыполнен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добровольном порядке требований нормативных документов по пожарной безопас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50920" y="2549520"/>
            <a:ext cx="8642160" cy="423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разделе 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«Результаты анализа пожарной безопасности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кларации указываютс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еречень отступлен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т требований пожарной безопасности, установленных нормативными документами, и/ил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онстатируется отсутств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еполнота требован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жарной безопасно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 производственному объекту или его составляюще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бщие с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 проводимых на декларируемом объекте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технологических процесса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указанием распределения и максимального количества пожароопасных веществ по декларируемому объекту. Данные должны приводиться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ля всех составляющи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 максимальным регламентным (проектным) значениям количества опасного веще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 разработанных и согласованных в установленном порядке для объекта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пециальных технических условия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 пожарной безопасност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2.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езультаты оценки пожарного рис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у пожарного риска допускается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не проводи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 количестве обращающихся на объекте горючих веществ (материалов)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меньшем пороговых знач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126828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чень сведений,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включаемых в декларацию пожарной безопасности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(продолжение)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выполнении в полном объем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л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сутстви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ребований пожарной безопасности, установленных нормативными документ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59280" y="3213000"/>
            <a:ext cx="5905440" cy="35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одтверждением выполн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ребуемых значений пожарного риска в этом случае является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выполн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ребований пожарной безопасност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азработанных для этого объек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гласованны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установленном порядке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пециальных технических услов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азанные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специальные технические услов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олжны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тражать специфик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беспечения пожарной безопасности конкретного производственного объекта 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одержать комплек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обходимых инженерно-технических и организационных мероприятий по обеспечению пожарной безопасност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ок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разработк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согласова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пециальных технических условий определяется нормативными правовыми актами Российской Федерац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50920" y="3357720"/>
            <a:ext cx="2376360" cy="3143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одтверждение выполн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ребуемых   значений  пожарного рис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0" y="119700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дтверждение соответствия производственного объекта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рмативным значениям риска, в случа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ли количество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щающихся пожароопасных веществ (материалов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нее порогового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при невыполнении в полном объеме или отсутствии требований пожарной безопасности, установленных нормативными документами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ециальные технические услов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2268360" y="1628640"/>
            <a:ext cx="1727280" cy="2016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1908000" y="4076640"/>
            <a:ext cx="4753080" cy="2016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3132000" y="2349360"/>
            <a:ext cx="28764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3564000" y="170028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2195640" y="198900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2340000" y="3068640"/>
            <a:ext cx="28728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3419640" y="335772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4643280" y="4941720"/>
            <a:ext cx="28764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6661080" y="400536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6734160" y="5805360"/>
            <a:ext cx="287280" cy="360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4211640" y="3716280"/>
            <a:ext cx="504720" cy="576360"/>
          </a:xfrm>
          <a:prstGeom prst="ellipse">
            <a:avLst/>
          </a:prstGeom>
          <a:gradFill rotWithShape="0">
            <a:gsLst>
              <a:gs pos="0">
                <a:srgbClr val="c78731"/>
              </a:gs>
              <a:gs pos="100000">
                <a:srgbClr val="69bbc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14"/>
          <p:cNvSpPr/>
          <p:nvPr/>
        </p:nvSpPr>
        <p:spPr>
          <a:xfrm>
            <a:off x="6373800" y="4724280"/>
            <a:ext cx="504720" cy="576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4211640" y="5734080"/>
            <a:ext cx="50472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9bb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Oval 16"/>
          <p:cNvSpPr/>
          <p:nvPr/>
        </p:nvSpPr>
        <p:spPr>
          <a:xfrm>
            <a:off x="5292720" y="5661000"/>
            <a:ext cx="504720" cy="576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69bb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Oval 17"/>
          <p:cNvSpPr/>
          <p:nvPr/>
        </p:nvSpPr>
        <p:spPr>
          <a:xfrm>
            <a:off x="2916360" y="5661000"/>
            <a:ext cx="504720" cy="576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Oval 18"/>
          <p:cNvSpPr/>
          <p:nvPr/>
        </p:nvSpPr>
        <p:spPr>
          <a:xfrm>
            <a:off x="5219640" y="3860640"/>
            <a:ext cx="647640" cy="792360"/>
          </a:xfrm>
          <a:prstGeom prst="ellipse">
            <a:avLst/>
          </a:prstGeom>
          <a:gradFill rotWithShape="0">
            <a:gsLst>
              <a:gs pos="0">
                <a:srgbClr val="69bbc1"/>
              </a:gs>
              <a:gs pos="100000">
                <a:srgbClr val="c78731"/>
              </a:gs>
            </a:gsLst>
            <a:lin ang="5400000"/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Oval 19"/>
          <p:cNvSpPr/>
          <p:nvPr/>
        </p:nvSpPr>
        <p:spPr>
          <a:xfrm>
            <a:off x="2987640" y="3860640"/>
            <a:ext cx="647640" cy="792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Oval 20"/>
          <p:cNvSpPr/>
          <p:nvPr/>
        </p:nvSpPr>
        <p:spPr>
          <a:xfrm>
            <a:off x="1620720" y="4724280"/>
            <a:ext cx="647640" cy="792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da330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Oval 21"/>
          <p:cNvSpPr/>
          <p:nvPr/>
        </p:nvSpPr>
        <p:spPr>
          <a:xfrm>
            <a:off x="1619280" y="2276640"/>
            <a:ext cx="287280" cy="360360"/>
          </a:xfrm>
          <a:prstGeom prst="ellipse">
            <a:avLst/>
          </a:prstGeom>
          <a:gradFill rotWithShape="0">
            <a:gsLst>
              <a:gs pos="0">
                <a:srgbClr val="a45200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9bb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" name="AutoShape 22"/>
          <p:cNvCxnSpPr>
            <a:stCxn id="137" idx="7"/>
            <a:endCxn id="123" idx="2"/>
          </p:cNvCxnSpPr>
          <p:nvPr/>
        </p:nvCxnSpPr>
        <p:spPr>
          <a:xfrm flipH="1" flipV="1" rot="5400000">
            <a:off x="1945080" y="2087640"/>
            <a:ext cx="150120" cy="313560"/>
          </a:xfrm>
          <a:prstGeom prst="curvedConnector2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cxnSp>
        <p:nvCxnSpPr>
          <p:cNvPr id="139" name="AutoShape 23"/>
          <p:cNvCxnSpPr/>
          <p:nvPr/>
        </p:nvCxnSpPr>
        <p:spPr>
          <a:xfrm>
            <a:off x="2484000" y="2205000"/>
            <a:ext cx="693000" cy="232560"/>
          </a:xfrm>
          <a:prstGeom prst="curvedConnector2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cxnSp>
        <p:nvCxnSpPr>
          <p:cNvPr id="140" name="AutoShape 24"/>
          <p:cNvCxnSpPr/>
          <p:nvPr/>
        </p:nvCxnSpPr>
        <p:spPr>
          <a:xfrm>
            <a:off x="3492000" y="3715920"/>
            <a:ext cx="1080" cy="258120"/>
          </a:xfrm>
          <a:prstGeom prst="straightConnector1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cxnSp>
        <p:nvCxnSpPr>
          <p:cNvPr id="141" name="AutoShape 25"/>
          <p:cNvCxnSpPr/>
          <p:nvPr/>
        </p:nvCxnSpPr>
        <p:spPr>
          <a:xfrm>
            <a:off x="3419640" y="2637000"/>
            <a:ext cx="86400" cy="753120"/>
          </a:xfrm>
          <a:prstGeom prst="straightConnector1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</p:cxnSp>
      <p:sp>
        <p:nvSpPr>
          <p:cNvPr id="142" name="Line 26"/>
          <p:cNvSpPr/>
          <p:nvPr/>
        </p:nvSpPr>
        <p:spPr>
          <a:xfrm>
            <a:off x="4932360" y="5084640"/>
            <a:ext cx="144000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27"/>
          <p:cNvSpPr/>
          <p:nvPr/>
        </p:nvSpPr>
        <p:spPr>
          <a:xfrm flipH="1" flipV="1">
            <a:off x="5866920" y="4076280"/>
            <a:ext cx="863640" cy="7308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28"/>
          <p:cNvSpPr/>
          <p:nvPr/>
        </p:nvSpPr>
        <p:spPr>
          <a:xfrm flipH="1" flipV="1">
            <a:off x="5796000" y="5950080"/>
            <a:ext cx="936720" cy="7128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29"/>
          <p:cNvSpPr/>
          <p:nvPr/>
        </p:nvSpPr>
        <p:spPr>
          <a:xfrm flipH="1" flipV="1">
            <a:off x="2340000" y="5660640"/>
            <a:ext cx="216000" cy="14436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30"/>
          <p:cNvSpPr/>
          <p:nvPr/>
        </p:nvSpPr>
        <p:spPr>
          <a:xfrm flipV="1">
            <a:off x="2268360" y="4436640"/>
            <a:ext cx="216000" cy="14436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31"/>
          <p:cNvSpPr/>
          <p:nvPr/>
        </p:nvSpPr>
        <p:spPr>
          <a:xfrm flipH="1">
            <a:off x="3924360" y="6093000"/>
            <a:ext cx="21600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32"/>
          <p:cNvSpPr/>
          <p:nvPr/>
        </p:nvSpPr>
        <p:spPr>
          <a:xfrm flipH="1">
            <a:off x="5076360" y="6021360"/>
            <a:ext cx="14292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33"/>
          <p:cNvSpPr/>
          <p:nvPr/>
        </p:nvSpPr>
        <p:spPr>
          <a:xfrm flipH="1">
            <a:off x="6156000" y="5589720"/>
            <a:ext cx="144360" cy="14436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34"/>
          <p:cNvSpPr/>
          <p:nvPr/>
        </p:nvSpPr>
        <p:spPr>
          <a:xfrm flipH="1">
            <a:off x="4859280" y="4508640"/>
            <a:ext cx="433440" cy="43308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35"/>
          <p:cNvSpPr/>
          <p:nvPr/>
        </p:nvSpPr>
        <p:spPr>
          <a:xfrm>
            <a:off x="4932360" y="5229360"/>
            <a:ext cx="503280" cy="50472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36"/>
          <p:cNvSpPr/>
          <p:nvPr/>
        </p:nvSpPr>
        <p:spPr>
          <a:xfrm>
            <a:off x="1763640" y="2637000"/>
            <a:ext cx="142920" cy="2087280"/>
          </a:xfrm>
          <a:prstGeom prst="line">
            <a:avLst/>
          </a:prstGeom>
          <a:ln w="9360">
            <a:solidFill>
              <a:srgbClr val="69bbc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37"/>
          <p:cNvSpPr/>
          <p:nvPr/>
        </p:nvSpPr>
        <p:spPr>
          <a:xfrm>
            <a:off x="755640" y="2276640"/>
            <a:ext cx="79200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Проект</a:t>
            </a:r>
            <a:r>
              <a:rPr b="0" lang="ru-RU" sz="900" spc="-1" strike="noStrike">
                <a:solidFill>
                  <a:srgbClr val="a452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38"/>
          <p:cNvSpPr/>
          <p:nvPr/>
        </p:nvSpPr>
        <p:spPr>
          <a:xfrm>
            <a:off x="3059280" y="1628640"/>
            <a:ext cx="144360" cy="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39"/>
          <p:cNvSpPr/>
          <p:nvPr/>
        </p:nvSpPr>
        <p:spPr>
          <a:xfrm>
            <a:off x="3995640" y="2492280"/>
            <a:ext cx="0" cy="21600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40"/>
          <p:cNvSpPr/>
          <p:nvPr/>
        </p:nvSpPr>
        <p:spPr>
          <a:xfrm flipH="1" flipV="1">
            <a:off x="2700360" y="3499920"/>
            <a:ext cx="71280" cy="73080"/>
          </a:xfrm>
          <a:prstGeom prst="line">
            <a:avLst/>
          </a:prstGeom>
          <a:ln w="9360">
            <a:solidFill>
              <a:srgbClr val="69bbc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2268360" y="2492280"/>
            <a:ext cx="0" cy="144720"/>
          </a:xfrm>
          <a:prstGeom prst="line">
            <a:avLst/>
          </a:prstGeom>
          <a:ln w="9360">
            <a:solidFill>
              <a:srgbClr val="69bb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Oval 42"/>
          <p:cNvSpPr/>
          <p:nvPr/>
        </p:nvSpPr>
        <p:spPr>
          <a:xfrm>
            <a:off x="2843280" y="1628640"/>
            <a:ext cx="144360" cy="144720"/>
          </a:xfrm>
          <a:prstGeom prst="ellipse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Oval 43"/>
          <p:cNvSpPr/>
          <p:nvPr/>
        </p:nvSpPr>
        <p:spPr>
          <a:xfrm>
            <a:off x="2771640" y="2205000"/>
            <a:ext cx="144720" cy="144360"/>
          </a:xfrm>
          <a:prstGeom prst="ellipse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Oval 44"/>
          <p:cNvSpPr/>
          <p:nvPr/>
        </p:nvSpPr>
        <p:spPr>
          <a:xfrm>
            <a:off x="2195640" y="2708280"/>
            <a:ext cx="142920" cy="144360"/>
          </a:xfrm>
          <a:prstGeom prst="ellipse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1835280" y="1700280"/>
            <a:ext cx="64908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твержд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азч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46"/>
          <p:cNvSpPr/>
          <p:nvPr/>
        </p:nvSpPr>
        <p:spPr>
          <a:xfrm>
            <a:off x="2916360" y="1844640"/>
            <a:ext cx="576000" cy="57636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с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е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ГП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бъек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47"/>
          <p:cNvSpPr/>
          <p:nvPr/>
        </p:nvSpPr>
        <p:spPr>
          <a:xfrm>
            <a:off x="3851280" y="1700280"/>
            <a:ext cx="576360" cy="7308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НИИП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48"/>
          <p:cNvSpPr/>
          <p:nvPr/>
        </p:nvSpPr>
        <p:spPr>
          <a:xfrm>
            <a:off x="3851280" y="3429000"/>
            <a:ext cx="1944720" cy="7128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ование УГПН МЧС Р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5292720" y="3716280"/>
            <a:ext cx="574560" cy="7164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оитель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0"/>
          <p:cNvSpPr/>
          <p:nvPr/>
        </p:nvSpPr>
        <p:spPr>
          <a:xfrm>
            <a:off x="2556000" y="3068640"/>
            <a:ext cx="863640" cy="216000"/>
          </a:xfrm>
          <a:prstGeom prst="rect">
            <a:avLst/>
          </a:prstGeom>
          <a:solidFill>
            <a:srgbClr val="be79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УЗ ГП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51"/>
          <p:cNvSpPr/>
          <p:nvPr/>
        </p:nvSpPr>
        <p:spPr>
          <a:xfrm>
            <a:off x="2268360" y="3933720"/>
            <a:ext cx="72108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ект ПП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четы П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52"/>
          <p:cNvSpPr/>
          <p:nvPr/>
        </p:nvSpPr>
        <p:spPr>
          <a:xfrm>
            <a:off x="755640" y="4941720"/>
            <a:ext cx="792000" cy="3589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проек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3 на проек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3995640" y="4365720"/>
            <a:ext cx="1081080" cy="7308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лавгосэкспертиз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ГГЭ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5292720" y="4653000"/>
            <a:ext cx="574560" cy="14436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та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55"/>
          <p:cNvSpPr/>
          <p:nvPr/>
        </p:nvSpPr>
        <p:spPr>
          <a:xfrm>
            <a:off x="7020000" y="4076640"/>
            <a:ext cx="100800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стройнадзор (ГСН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56"/>
          <p:cNvSpPr/>
          <p:nvPr/>
        </p:nvSpPr>
        <p:spPr>
          <a:xfrm>
            <a:off x="6948360" y="4941720"/>
            <a:ext cx="107964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вод в эксплуатацию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57"/>
          <p:cNvSpPr/>
          <p:nvPr/>
        </p:nvSpPr>
        <p:spPr>
          <a:xfrm>
            <a:off x="7093080" y="5877000"/>
            <a:ext cx="792000" cy="1429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дзор ГП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58"/>
          <p:cNvSpPr/>
          <p:nvPr/>
        </p:nvSpPr>
        <p:spPr>
          <a:xfrm>
            <a:off x="3419640" y="5084640"/>
            <a:ext cx="115092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рг-тех.мероприят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59"/>
          <p:cNvSpPr/>
          <p:nvPr/>
        </p:nvSpPr>
        <p:spPr>
          <a:xfrm>
            <a:off x="2627280" y="6308640"/>
            <a:ext cx="100800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спертиз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четы П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60"/>
          <p:cNvSpPr/>
          <p:nvPr/>
        </p:nvSpPr>
        <p:spPr>
          <a:xfrm>
            <a:off x="4140360" y="6381720"/>
            <a:ext cx="792000" cy="21600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конструкц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хн.перевоор</a:t>
            </a:r>
            <a:r>
              <a:rPr b="0" lang="ru-RU" sz="900" spc="-1" strike="noStrike">
                <a:solidFill>
                  <a:srgbClr val="a452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61"/>
          <p:cNvSpPr/>
          <p:nvPr/>
        </p:nvSpPr>
        <p:spPr>
          <a:xfrm>
            <a:off x="5292720" y="6308640"/>
            <a:ext cx="719280" cy="14472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сплуатаци</a:t>
            </a:r>
            <a:r>
              <a:rPr b="0" lang="ru-RU" sz="900" spc="-1" strike="noStrike">
                <a:solidFill>
                  <a:srgbClr val="a45200"/>
                </a:solidFill>
                <a:latin typeface="Times New Roman"/>
              </a:rPr>
              <a:t>я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62"/>
          <p:cNvSpPr/>
          <p:nvPr/>
        </p:nvSpPr>
        <p:spPr>
          <a:xfrm>
            <a:off x="6732720" y="1916280"/>
            <a:ext cx="1800000" cy="21744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частие НТ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63"/>
          <p:cNvSpPr/>
          <p:nvPr/>
        </p:nvSpPr>
        <p:spPr>
          <a:xfrm>
            <a:off x="6877080" y="191628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7873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64"/>
          <p:cNvSpPr/>
          <p:nvPr/>
        </p:nvSpPr>
        <p:spPr>
          <a:xfrm>
            <a:off x="6659640" y="2276640"/>
            <a:ext cx="1871640" cy="21564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рианты решения задач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Oval 65"/>
          <p:cNvSpPr/>
          <p:nvPr/>
        </p:nvSpPr>
        <p:spPr>
          <a:xfrm>
            <a:off x="6659640" y="2349360"/>
            <a:ext cx="142920" cy="142920"/>
          </a:xfrm>
          <a:prstGeom prst="ellipse">
            <a:avLst/>
          </a:prstGeom>
          <a:solidFill>
            <a:srgbClr val="69bbc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916360" y="2421000"/>
            <a:ext cx="590364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зделе 3 «Обеспечение требований пожарной безопасности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екларации  указываются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ведения о принятых мероприятия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 обеспечению пожарной безопасности в объеме, установленном нормативными правовыми актами Российской Федерации для состава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дела проектной документации «Мероприятия по обеспечению пожарной безопасност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астоящее врем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став раздела проектной документации «Мероприятия по обеспечению пожарной безопасности» регламентирован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становлением  Правительства Российской Федерации от 16 февраля 2008 г. № 87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0920" y="2349360"/>
            <a:ext cx="2376360" cy="3277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аздел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Обеспечение требований пожарной безопасности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50920" y="1197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чень сведений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, включаемых в декларацию пожарной безопасности - пр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ыполнении в полном объеме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сутствии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требований пожарной безопасности, установленных нормативными документ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50920" y="1989000"/>
            <a:ext cx="8569080" cy="48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ъекты капитального строительства производственного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непроизводственного назнач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6. Раздел 9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) описание системы обеспечения пожарной безопасности объекта капитального строительств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) обоснование противопожарных расстояний между зданиями, сооружениями и наружными установками, обеспечивающих пожарную безопасность объектов капитального строительств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) описание и обоснование проектных решений по наружному противопожарному водоснабжению, по определению проездов и подъездов для пожарной техник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) описание и обоснование принятых конструктивных и объемно-планировочных решений, степени огнестойкости и класса конструктивной пожарной опасности строительных конструкци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) описание и обоснование проектных решений по обеспечению безопасности людей при возникновении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) перечень мероприятий по обеспечению безопасности подразделений пожарной охраны при ликвидации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) сведения о категории зданий, сооружений, помещений, оборудования и наружных установок по признаку взрывопожарной и пожарной опасност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) перечень зданий, сооружений, помещений и оборудования, подлежащих защите автоматическими установками пожаротушения и оборудованию автоматической пожарной сигнализацие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) описание и обоснование противопожарной защиты (автоматических установок пожаротушения, пожарной сигнализации, оповещения и управления эвакуацией людей при пожаре, внутреннего противопожарного водопровода, противодымной защиты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0" y="1989000"/>
            <a:ext cx="9144000" cy="46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) описание и обоснование необходимости размещения оборудования противопожарной защиты, управления таким оборудованием, взаимодействия такого оборудования с инженерными системами зданий и оборудованием, работа которого во время пожара направлена на обеспечение безопасной эвакуации людей, тушение пожара и ограничение его развития, а также алгоритма работы технических систем (средств) противопожарной защиты (при наличи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) описание организационно-технических мероприятий по обеспечению пожарной безопасности объекта капитального строительств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) расчет пожарных рисков угрозы жизни и здоровью людей и уничтожения имущества (при выполнении обязательных требований пожарной безопасности, установленных техническими регламентами, и выполнении в добровольном порядке требований нормативных документов по пожарной безопасности расчет пожарных рисков не требуется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графическ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) ситуационный план организации земельного участка, предоставленного для размещения объекта капитального строительства, с указанием въезда (выезда) на территорию и путей подъезда к объектам пожарной техники, мест размещения и емкости пожарных резервуаров (при их наличии), схем прокладки наружного противопожарного водопровода, мест размещения пожарных гидрантов и мест размещения насосных станци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) схемы эвакуации людей и материальных средств из зданий (сооружений) и с прилегающей к зданиям (сооружениям) территории в случае возникновения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) структурные схемы технических систем (средств) противопожарной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щиты (автоматических установок пожаротушения, автоматической пожарной сигнализации, внутреннего противопожарного водопровода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0" y="1989000"/>
            <a:ext cx="9144000" cy="49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инейные объекты капитального строительст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1. Раздел 8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) описание системы обеспечения пожарной безопасности линейного объекта и обеспечивающих его функционирование зданий, строений и сооружений, проектируемых в составе линейного объект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) характеристику пожарной опасности технологических процессов, используемых на линейном объект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) описание и обоснование проектных решений, обеспечивающих пожарную безопасность линейного объекта (противопожарное расстояние от оси трассы до населенных пунктов, промышленных и сельскохозяйственных объектов, лесных массивов, расстояние между прокладываемыми параллельно друг другу трассами линейных объектов, пересечение с трассами других линейных объектов, устройство охранных зон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) описание проектных решений по размещению линейного объекта, в том числе зданий, строений и сооружений в его составе, обеспечивающих пожарную безопасность линейного объекта (противопожарное расстояние между зданиями, сооружениями, наружными установками, отдельно стоящими резервуарами с нефтью и нефтепродуктами, компрессорными и насосными станциями и др., проектные решения по наружному противопожарному водоснабжению, проезды и подъезды для пожарной техник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) описание и обоснование объемно-планировочных и конструктивных решений, степени огнестойкости и класса конструктивной пожарной опасности, предела огнестойкости и класса пожарной опасности строительных конструкций обеспечивающих функционирование линейного объекта зданий, строений и сооружений, проектируемых и (или) находящихся в составе линейного объект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) перечень мероприятий, обеспечивающих безопасность подразделений пожарной охраны при ликвидации пожа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0" y="1989000"/>
            <a:ext cx="9144000" cy="520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1. Раздел 8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) сведения о категории оборудования и наружных установок по критерию взрывопожарной и пожарной опасност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) перечень оборудования, подлежащего защите с применением автоматических установок пожаротушения и автоматической пожарной сигнализаци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) описание и обоснование технических систем противопожарной защиты (автоматических систем пожаротушения, пожарной сигнализации, оповещения и управления эвакуацией людей при пожаре, внутреннего противопожарного водопровода, противодымной защиты), описание размещения технических систем противопожарной защиты, систем их управления, а также способа взаимодействия с инженерными системами зданий и оборудованием, работа которого во время пожара направлена на обеспечение безопасной эвакуации людей, тушение пожара и ограничение его развития, а также порядок работы технических систем (средств) для работы автоматических систем пожаротушения и пожарной техники (при наличии таких систем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) описание технических решений по противопожарной защите технологических узлов и систем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) описание организационно-технических мероприятий по обеспечению пожарной безопасности линейного объекта, обоснование необходимости создания пожарной охраны объекта, расчет ее необходимых сил и средст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) определение пожарных рисков угрозы жизни и здоровью людей, уничтожения имущества (расчет пожарных рисков не требуется при выполнении обязательных требований пожарной безопасности, установленных техническими регламентами, и выполнении в добровольном порядке требований нормативных документов по пожарной безопасност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графическ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) схемы и планы, указанные в подпунктах "н" и "п" пункта 26 настоящего Полож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0" y="1989000"/>
            <a:ext cx="9144000" cy="520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1. Раздел 8 "Мероприятия по обеспечению пожарной безопасности" должен содержать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текстов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) сведения о категории оборудования и наружных установок по критерию взрывопожарной и пожарной опасност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) перечень оборудования, подлежащего защите с применением автоматических установок пожаротушения и автоматической пожарной сигнализации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) описание и обоснование технических систем противопожарной защиты (автоматических систем пожаротушения, пожарной сигнализации, оповещения и управления эвакуацией людей при пожаре, внутреннего противопожарного водопровода, противодымной защиты), описание размещения технических систем противопожарной защиты, систем их управления, а также способа взаимодействия с инженерными системами зданий и оборудованием, работа которого во время пожара направлена на обеспечение безопасной эвакуации людей, тушение пожара и ограничение его развития, а также порядок работы технических систем (средств) для работы автоматических систем пожаротушения и пожарной техники (при наличии таких систем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) описание технических решений по противопожарной защите технологических узлов и систем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) описание организационно-технических мероприятий по обеспечению пожарной безопасности линейного объекта, обоснование необходимости создания пожарной охраны объекта, расчет ее необходимых сил и средст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) определение пожарных рисков угрозы жизни и здоровью людей, уничтожения имущества (расчет пожарных рисков не требуется при выполнении обязательных требований пожарной безопасности, установленных техническими регламентами, и выполнении в добровольном порядке требований нормативных документов по пожарной безопасност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графической ча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) схемы и планы, указанные в подпунктах "н" и "п" пункта 26 настоящего Полож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50920" y="1197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становление  Правительства Российской Федерации от 16 февраля 2008 г. № 8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0" y="1989000"/>
            <a:ext cx="91440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Х ХХХ ХХ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ХХХ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ХХ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р КН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ядковый номер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д населенного пункта и кода субъекта Российской Федерации, согласно Общероссийского классификатора объектов административно-территориального деления ОК 019-95 на момент регистр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50920" y="1197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омер декларации пожарной безопас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 flipV="1">
            <a:off x="2771640" y="2349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 flipV="1">
            <a:off x="900000" y="2492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2771640" y="24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39672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мера возможности реализации пожарно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с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кта защиты и ее последствий для людей и материальных ценност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пустимый 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пожарный риск, уровень которого допустим и обоснован исходя из социально-экономических услов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дивидуальный 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пожарный риск, который может привести к гибели человека в результате воздействия опасных факторов пожар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ый пожарный рис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степень опасности, ведущей к гибели группы людей в результате воздействия опасных факторов пожа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Москва, ГОУ ДПО ГАСИС, кафедра безопасности в чрезвычайных ситуациях</a:t>
            </a:r>
            <a:br>
              <a:rPr sz="1600"/>
            </a:b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урс 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ка экспертов системы добровольной сертификации по независимой оценке рисков в области пожарной безопасности, гражданской обороны и защиты населения и территорий от чрезвычайных ситуаций природного и техногенного характера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79280" y="1341360"/>
            <a:ext cx="8785440" cy="329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НЯТИЕ ПОЖАРНОГО РИСКА В НОРМАТИВНЫХ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АВОВЫХ АКТАХ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ый закон от 22 июля 2008 г. № 123-ФЗ «Технический регламент о требованиях пожарной безопасности» устанавливае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ункте 7 статьи 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рядок проведения расче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 оценке пожарного риска определяется нормативными правовыми актами Российской Федерац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27648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ек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ительство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АНО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«_____»________________________ г.  №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СК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 утверждении Порядка оценки соответствия объектов защиты (продукции) установленным требованиям пожарной безопасности путем независимой оценки пожарного рис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оответствии со статьей 144 Федерального закона «Технический регламент о требованиях пожарной безопасности» Правительство Российской Федерации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 о с т а н о в л я е 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 Утвердить прилагаемый Порядок оценки соответствия объектов защиты (продукции) установленным требованиям пожарной безопасности путем независимой оценки пожарного рис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Настоящее Постановление вступает в силу с 1 мая 2009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седатель Правитель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ссийской Федерации                                                     В. Пут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1129320"/>
            <a:ext cx="9144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2007 году оперативная обстановка с пожарами в Российской Федерации  характеризовалась следующими основными показателям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зарегистрировано 211163 пожар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гибли 15924 челове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в том числе 597 детей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олучили травмы 13646 человек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ямой материальный ущерб составил 8551,2 млн. руб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 algn="ctr">
              <a:tabLst>
                <a:tab algn="l" pos="0"/>
                <a:tab algn="l" pos="73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2007 году в Российской Федерации ежедневно происходило 579 пожаров, при которых погибало 44 человека и 37 человек получали травмы. Огнем уничтожалось 160 строений, 24 единицы автотракторной техники и 8 голов скота. Ежедневный материальный ущерб составил 23,4 млн. рубл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9280" y="9216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тья 79. Нормативное значение пожарного риска для зданий, сооружений и стро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дивидуальный пожарный риск в зданиях, сооружениях и строениях не должен превышать значе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дной миллионной в год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и размещени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дельного человека в наиболее удаленной от выхода из здания, сооружения и строения точ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иск гибели людей в результате воздействия опасных факторов пожара должен  определяться  с  учетом  функционирования   систем  обеспечения пожарной безопасности зданий, сооружений и стро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50920" y="11592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атья 93. Нормативные значения пожарного риска для производственных объек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зданиях, сооружениях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оениях и на территориях производственных объектов не должна превышать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 миллионную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иск гибели людей в результате воздействия опасных факторов пожар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лжен   определяться   с  учетом   функционирования   систем  обеспеч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жарной безопасности зданий, сооружений и стро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ля производственных объектов, на которых обеспечение величин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ндивидуального пожарного риска одной миллионной в год невозможно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язи   со   спецификой   функционирования   технологических   процессов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ускается   увеличение   индивидуального   пожарного   риска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о   одной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тысячной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При этом должны быть предусмотрены меры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учению  персонала действиям  при  пожаре  и  по  социальной  защит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ботников, компенсирующие их работу в условиях повышенного рис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результате воздейств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асных   факторов   пожара   на   производственном   объекте   для  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дящихся в селитебной зоне вблизи объекта, не должна превышать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сто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  социального   пожарного   риска   воздействия   опас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кторов пожара на производственном объекте для людей, находящихся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литебной    зоне    вблизи    объекта,    не    должна    превышать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50920" y="115920"/>
            <a:ext cx="8893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атья 93. Нормативные значения пожарного риска для производственных объек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зданиях, сооружениях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оениях и на территориях производственных объектов не должна превышать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 миллионную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иск гибели людей в результате воздействия опасных факторов пожар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лжен   определяться   с  учетом   функционирования   систем  обеспеч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жарной безопасности зданий, сооружений и стро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ля производственных объектов, на которых обеспечение величин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ндивидуального пожарного риска одной миллионной в год невозможно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язи   со   спецификой   функционирования   технологических   процессов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ускается   увеличение   индивидуального   пожарного   риска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о   одной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тысячной в г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При этом должны быть предусмотрены меры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учению  персонала действиям  при  пожаре  и  по  социальной  защит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ботников, компенсирующие их работу в условиях повышенного рис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индивидуального пожарного риска в результате воздейств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асных   факторов   пожара   на   производственном   объекте   для  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дящихся в селитебной зоне вблизи объекта, не должна превышать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сто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чина   социального   пожарного   риска   воздействия   опас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акторов пожара на производственном объекте для людей, находящихся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литебной    зоне    вблизи    объекта,    не    должна    превышать  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дну</a:t>
            </a:r>
            <a:br>
              <a:rPr sz="1600"/>
            </a:b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есятимиллионную в го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0:33:39Z</dcterms:created>
  <dc:creator>Денис</dc:creator>
  <dc:description/>
  <dc:language>en-US</dc:language>
  <cp:lastModifiedBy>Лев Николаевич Григорьев</cp:lastModifiedBy>
  <cp:lastPrinted>2006-01-24T07:15:59Z</cp:lastPrinted>
  <dcterms:modified xsi:type="dcterms:W3CDTF">2010-05-12T05:20:08Z</dcterms:modified>
  <cp:revision>322</cp:revision>
  <dc:subject/>
  <dc:title>ОЦЕНКА ПОЖАРНОГО РИСКА ПРОМЫШЛЕННЫХ ОБЪЕКТОВ</dc:title>
</cp:coreProperties>
</file>