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wmf" ContentType="image/x-wmf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C966-3F85-4057-81CA-83221B58D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7A7A-395A-4579-8B9E-C492EECE3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2A46-3BFF-48D4-A139-A918B0270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9C06-24DD-407B-A3DE-B22EF0BFE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AFC9E-1258-41BC-BBE9-E340443CE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E5FA3-1EF5-40E0-BCB3-36172F9C9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7D1C9-D8AC-4C80-956B-FF5193DDE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9B283-1D40-4369-8A3D-D3D208F83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38AD9-D15B-4341-90EB-C4609DC4F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A401D-8AAF-496E-9211-FD4C49122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AB0B5-FD00-4D08-971B-FA95F835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9FDB-A9DD-4832-A77A-6DAE250DD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88EE4-1B04-4532-849D-D3330808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ED561-261B-4D28-9C0A-79BE5537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4F33A-0E74-4F8B-AABE-71097E50A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7A374-1DB4-4C0E-B93D-9C158915E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EA804-0320-4019-AAE0-64021C29A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5D99-524A-4E86-BD0C-E4FD46ECA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60AB-5DB5-49C4-B9FF-67CAE3FE4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44B5-78D9-4688-9DEC-A1F2F8A81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7511-B95E-4E63-832D-BFA932493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BA6F-2993-4F09-A803-044F719C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F78D-086A-40F0-AF13-0D5EFF3E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7284-5F37-4ABE-86EC-5551EFCC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1D5AE-5146-44A1-B581-10EB7E8A4F49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90480" y="3340080"/>
            <a:ext cx="7653600" cy="485640"/>
          </a:xfrm>
          <a:custGeom>
            <a:avLst/>
            <a:gdLst>
              <a:gd name="textAreaLeft" fmla="*/ 0 w 7653600"/>
              <a:gd name="textAreaRight" fmla="*/ 7653960 w 765360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5DEF9-14D1-446A-847F-6A2CE4D8E934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-360" y="549360"/>
            <a:ext cx="88930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СОВРЕМЕННЫЕ МЕТОДЫ ПРОГНОЗИРОВАНИЯ ДИНАМИКИ ОПАСНЫХ ФАКТОРОВ ПОЖАРА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Д.т.н., профессор  ПУЗАЧ С.В., к.т.н., доцент АНДРЕЕВ В.В.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</a:t>
            </a: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Comment 4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Основные научные проблемы при разработке метода расчета,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находящихся на стыке различных научных дисциплин</a:t>
            </a: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 (тепломассообмен, химия, теория прочности)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турбулентный тепломассообмен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при горении газообразных веществ и твердых частиц в условиях совместного воздействия ряда возмущающих течение факторов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лучистый теплообмен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в оптически неоднородной двухфазной газовой среде в условиях турбулентного горения и его взаимного влияния на конвективный теплообмен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роцесс </a:t>
            </a: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прогрева и газификации пожарной нагрузки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под тепловым воздействием пожара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фазовые переходы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(испарение, конденсация, плавление) в условиях пожара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совместное определение </a:t>
            </a: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теплового и напряженного состояния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ограждающих конструкций помещения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3640" y="83628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МАТЕМАТИЧЕСКИЕ МОДЕЛИ РАСЧЕТА ДИНАМИКИ ОПАСНЫХ ФАКТОРОВ ПОЖАРА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3357360"/>
            <a:ext cx="86104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Различие моделей заключается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в </a:t>
            </a: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разном уровне детализации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термогазодинамической картины пожара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Comment 4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2124000" y="1557360"/>
            <a:ext cx="295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1042920" y="2060640"/>
            <a:ext cx="29512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ИНТЕГРАЛЬНЫЕ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4356000" y="2060640"/>
            <a:ext cx="29512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ЗОННЫЕ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2411280" y="3429000"/>
            <a:ext cx="410544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ПОЛЕВЫЕ (ДИФФЕРЕНЦИАЛЬНЫЕ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Line 18"/>
          <p:cNvSpPr/>
          <p:nvPr/>
        </p:nvSpPr>
        <p:spPr>
          <a:xfrm flipH="1">
            <a:off x="2700360" y="1268280"/>
            <a:ext cx="719280" cy="79236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Line 30"/>
          <p:cNvSpPr/>
          <p:nvPr/>
        </p:nvSpPr>
        <p:spPr>
          <a:xfrm>
            <a:off x="4714920" y="1268280"/>
            <a:ext cx="1152360" cy="79236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Line 31"/>
          <p:cNvSpPr/>
          <p:nvPr/>
        </p:nvSpPr>
        <p:spPr>
          <a:xfrm>
            <a:off x="4140360" y="1268280"/>
            <a:ext cx="0" cy="216072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Line 32"/>
          <p:cNvSpPr/>
          <p:nvPr/>
        </p:nvSpPr>
        <p:spPr>
          <a:xfrm>
            <a:off x="900000" y="1268280"/>
            <a:ext cx="712800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Line 33"/>
          <p:cNvSpPr/>
          <p:nvPr/>
        </p:nvSpPr>
        <p:spPr>
          <a:xfrm flipV="1">
            <a:off x="8028000" y="404280"/>
            <a:ext cx="0" cy="86364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Line 35"/>
          <p:cNvSpPr/>
          <p:nvPr/>
        </p:nvSpPr>
        <p:spPr>
          <a:xfrm flipV="1">
            <a:off x="900000" y="404280"/>
            <a:ext cx="0" cy="86364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Line 36"/>
          <p:cNvSpPr/>
          <p:nvPr/>
        </p:nvSpPr>
        <p:spPr>
          <a:xfrm>
            <a:off x="900000" y="404640"/>
            <a:ext cx="712800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ИНТЕГРАЛЬНАЯ МОДЕЛЬ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-757440" y="188640"/>
            <a:ext cx="9901080" cy="52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2" marL="10400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04004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ru-RU" sz="2000" spc="-1" strike="noStrike" u="sng">
                <a:solidFill>
                  <a:srgbClr val="333333"/>
                </a:solidFill>
                <a:uFillTx/>
                <a:latin typeface="Times New Roman"/>
              </a:rPr>
              <a:t>Среднеобъемные величины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температуры, плотности, массовых концентраций кислорода, токсичных продуктов горения, огнетушащего вещества и оптической концентрации дыма, а также средние температуры ограждающих конструкций и усредненные характеристики теплогазообмена через проемы.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4004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4004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4004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4004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4004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4004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4004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4004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4004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4004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400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Рис. 1. Схема тепломассообмена :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– стены;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– перекрытие;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3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- открытый проем;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4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- горючий материал;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5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- очаг горения;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6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- нейтральная плоскость;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7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- система пожаротушения;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8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- механическая приточно-вытяжная вентиляция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Comment 4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27" name="Object 5"/>
          <p:cNvGraphicFramePr/>
          <p:nvPr/>
        </p:nvGraphicFramePr>
        <p:xfrm>
          <a:off x="2050920" y="1989000"/>
          <a:ext cx="6551640" cy="31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989000"/>
                    <a:ext cx="6551640" cy="31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3640" y="119664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ИНТЕГРАЛЬНАЯ МОДЕЛЬ</a:t>
            </a:r>
            <a:br>
              <a:rPr sz="24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основные упрощения термогазодинамической картины пожара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-757440" y="333360"/>
            <a:ext cx="990108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08576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08576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085760" indent="-217080" algn="just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газовая смесь состоит из идеальных газов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085760" indent="-217080" algn="just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состояние газовой среды помещения и параметры тепломассообмена в каждый момент времени однозначно определяются среднеобъемными значениями параметров состояния газовой среды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085760" indent="-217080" algn="just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оверхности равных давлений внутри и снаружи помещения, а также скоростей, равных нулю, в области проема являются плоскостями и совпадают друг с другом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085760" indent="-217080" algn="just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геометрическое положение пожарной нагрузки в помещении не влияет на параметры тепломассообмена через открытые проемы с окружающей средой и теплоотвода в ограждающие конструкции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08576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Comment 4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3640" y="692280"/>
            <a:ext cx="830556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ИНТЕГРАЛЬНАЯ МОДЕЛЬ</a:t>
            </a:r>
            <a:br>
              <a:rPr sz="24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структура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-613080" y="1989000"/>
            <a:ext cx="990108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Comment 4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952560" y="1577880"/>
            <a:ext cx="2395440" cy="843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Основные уравнения интегральной модели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4176720" y="1533600"/>
            <a:ext cx="3490920" cy="81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Дополнительные соотношения интегральной модели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1042920" y="3141720"/>
            <a:ext cx="3024360" cy="100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Модель прогрева ограждающих строительных конструкций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4716360" y="3284640"/>
            <a:ext cx="15559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Модель горения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6588000" y="3284640"/>
            <a:ext cx="241164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Модель газификации горючего материала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3564000" y="4797360"/>
            <a:ext cx="2808360" cy="9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Модель тепломассообмена через открытые проемы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Line 12"/>
          <p:cNvSpPr/>
          <p:nvPr/>
        </p:nvSpPr>
        <p:spPr>
          <a:xfrm>
            <a:off x="3348000" y="1916280"/>
            <a:ext cx="792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Line 13"/>
          <p:cNvSpPr/>
          <p:nvPr/>
        </p:nvSpPr>
        <p:spPr>
          <a:xfrm>
            <a:off x="5508720" y="2349360"/>
            <a:ext cx="0" cy="9352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" name="Line 14"/>
          <p:cNvSpPr/>
          <p:nvPr/>
        </p:nvSpPr>
        <p:spPr>
          <a:xfrm>
            <a:off x="7236000" y="2349360"/>
            <a:ext cx="0" cy="9352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Line 15"/>
          <p:cNvSpPr/>
          <p:nvPr/>
        </p:nvSpPr>
        <p:spPr>
          <a:xfrm>
            <a:off x="4427640" y="2349360"/>
            <a:ext cx="0" cy="2448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" name="Line 16"/>
          <p:cNvSpPr/>
          <p:nvPr/>
        </p:nvSpPr>
        <p:spPr>
          <a:xfrm flipH="1">
            <a:off x="3492000" y="2349360"/>
            <a:ext cx="792360" cy="79236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ИНТЕГРАЛЬНАЯ МОДЕЛЬ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9" name="Comment 4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0" y="69228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Основное преимущество: 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быстрый и низкотрудоемкий инженерный расчет динамики опасных факторов пожара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0" y="1197000"/>
            <a:ext cx="914400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ОСНОВНЫЕ НЕДОСТАТКИ: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область 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корректного применения интегральной модели (по объемам и геометрии помещений, расположению горючего материала и т.д.)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является 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нерешенной проблемой;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необходимость использования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дополнительной экспериментальной информации или моделей более высокого уровня (зонных или полевых)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для получения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распределения параметров тепломассообмена по объему помещения;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-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величины 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ОФП на уровне рабочей зоны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не зависят от вида, свойств, места расположения горючего материала и геометрии помещения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:                                    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   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ОФП</a:t>
            </a: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рз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=</a:t>
            </a:r>
            <a:r>
              <a:rPr b="1" i="1" lang="en-US" sz="1800" spc="-1" strike="noStrike">
                <a:solidFill>
                  <a:srgbClr val="333333"/>
                </a:solidFill>
                <a:latin typeface="Times New Roman"/>
              </a:rPr>
              <a:t>f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(ОФП</a:t>
            </a: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ср</a:t>
            </a: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333333"/>
                </a:solidFill>
                <a:latin typeface="Times New Roman"/>
              </a:rPr>
              <a:t>Z</a:t>
            </a: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)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где</a:t>
            </a:r>
            <a:r>
              <a:rPr b="0" i="1" lang="ru-RU" sz="1600" spc="-1" strike="noStrike">
                <a:solidFill>
                  <a:srgbClr val="333333"/>
                </a:solidFill>
                <a:latin typeface="Times New Roman"/>
              </a:rPr>
              <a:t>                                     </a:t>
            </a:r>
            <a:r>
              <a:rPr b="0" i="1" lang="en-US" sz="1600" spc="-1" strike="noStrike">
                <a:solidFill>
                  <a:srgbClr val="333333"/>
                </a:solidFill>
                <a:latin typeface="Times New Roman"/>
              </a:rPr>
              <a:t>h</a:t>
            </a:r>
            <a:r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рз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— высота рабочей зоны; </a:t>
            </a:r>
            <a:r>
              <a:rPr b="0" i="1" lang="ru-RU" sz="1600" spc="-1" strike="noStrike">
                <a:solidFill>
                  <a:srgbClr val="333333"/>
                </a:solidFill>
                <a:latin typeface="Times New Roman"/>
              </a:rPr>
              <a:t>Н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— высота помещения.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0" y="5013360"/>
            <a:ext cx="9144000" cy="132984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Была реализована в нормативных документах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ГОСТ 12.1.004-91, ГОСТ Р 12.3.047-98 для определения </a:t>
            </a:r>
            <a:r>
              <a:rPr b="0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необходимого времени эвакуации людей 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(при высоте </a:t>
            </a:r>
            <a:r>
              <a:rPr b="1" i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Н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Symbol"/>
                <a:ea typeface="Symbol"/>
              </a:rPr>
              <a:t>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 6 м)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- зальные помещения: аналитическое решение (проемы работают только на «выброс»);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- коридоры: численное решение уравнений интегральной модели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12"/>
              <p:cNvSpPr txBox="1"/>
              <p:nvPr/>
            </p:nvSpPr>
            <p:spPr>
              <a:xfrm>
                <a:off x="468360" y="4221000"/>
                <a:ext cx="18000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рз</m:t>
                            </m:r>
                          </m:sub>
                        </m:sSub>
                      </m:num>
                      <m:den>
                        <m:r>
                          <m:t xml:space="preserve">H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,4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рз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Rectangle 15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30556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ФОРМУЛЫ ГОСТ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12.1.004-91 и методики СП 11 </a:t>
            </a:r>
            <a:r>
              <a:rPr b="0" lang="ru-RU" sz="4000" spc="-1" strike="noStrike">
                <a:solidFill>
                  <a:srgbClr val="004c2b"/>
                </a:solidFill>
                <a:latin typeface="Times New Roman"/>
              </a:rPr>
              <a:t> </a:t>
            </a:r>
            <a:br>
              <a:rPr sz="2800"/>
            </a:b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8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0" y="692280"/>
            <a:ext cx="9144000" cy="85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Необходимое время эвакуации рассчитывается как произведение критической для человека продолжительности пожара на коэффициент безопасности. Предполагается, что каждый ОФП воздействует на человека независимо от других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Критическая продолжительность пожара: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по повышенной                              по потере видимости:               по понижен. содержанию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температуре:                                                                                                    кислорода: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по каждому из газообразных токсичных продуктов горения: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Упрощение термогазодинамической картины пожара: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- проемы работают только на «выброс»;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- коэффициент теплопотерь принимается постоянным;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удельный выход токсичных газов при сгорании 1 кг материала постоянен и не зависит от концентрации кислорода и т.д.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0" y="119700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3" name="Rectangle 10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11"/>
              <p:cNvSpPr txBox="1"/>
              <p:nvPr/>
            </p:nvSpPr>
            <p:spPr>
              <a:xfrm>
                <a:off x="0" y="2781360"/>
                <a:ext cx="25923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р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В</m:t>
                                </m:r>
                              </m:num>
                              <m:den>
                                <m:r>
                                  <m:t xml:space="preserve">А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70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(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73</m:t>
                                    </m:r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  <m:r>
                                      <m:t xml:space="preserve">Z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6" name="Rectangle 13"/>
          <p:cNvSpPr/>
          <p:nvPr/>
        </p:nvSpPr>
        <p:spPr>
          <a:xfrm>
            <a:off x="0" y="60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14"/>
              <p:cNvSpPr txBox="1"/>
              <p:nvPr/>
            </p:nvSpPr>
            <p:spPr>
              <a:xfrm>
                <a:off x="3059280" y="2708280"/>
                <a:ext cx="266364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р</m:t>
                        </m:r>
                      </m:sub>
                      <m:sup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sup>
                    </m:sSub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В</m:t>
                                </m:r>
                              </m:num>
                              <m:den>
                                <m:r>
                                  <m:t xml:space="preserve">А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V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ln</m:t>
                                        </m:r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05</m:t>
                                        </m:r>
                                        <m:r>
                                          <m:t xml:space="preserve">αE</m:t>
                                        </m:r>
                                        <m:r>
                                          <m:t xml:space="preserve">)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l</m:t>
                                            </m:r>
                                          </m:e>
                                          <m:sub>
                                            <m:r>
                                              <m:t xml:space="preserve">v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кр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ВD</m:t>
                                            </m:r>
                                          </m:e>
                                          <m:sub>
                                            <m:r>
                                              <m:t xml:space="preserve">s</m:t>
                                            </m:r>
                                          </m:sub>
                                        </m:sSub>
                                        <m:r>
                                          <m:t xml:space="preserve">Z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9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16"/>
              <p:cNvSpPr txBox="1"/>
              <p:nvPr/>
            </p:nvSpPr>
            <p:spPr>
              <a:xfrm>
                <a:off x="6012000" y="2565360"/>
                <a:ext cx="31320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р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O2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В</m:t>
                                </m:r>
                              </m:num>
                              <m:den>
                                <m:r>
                                  <m:t xml:space="preserve">А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0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044</m:t>
                                        </m:r>
                                      </m:num>
                                      <m:den>
                                        <m:r>
                                          <m:t xml:space="preserve">(</m:t>
                                        </m:r>
                                        <m:f>
                                          <m:num>
                                            <m:sSub>
                                              <m:e>
                                                <m:r>
                                                  <m:rPr>
                                                    <m:lit/>
                                                    <m:nor/>
                                                  </m:rPr>
                                                  <m:t xml:space="preserve">BL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O</m:t>
                                                </m:r>
                                                <m:r>
                                                  <m:t xml:space="preserve">2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r>
                                              <m:t xml:space="preserve">V</m:t>
                                            </m:r>
                                          </m:den>
                                        </m:f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0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27</m:t>
                                        </m:r>
                                        <m:r>
                                          <m:t xml:space="preserve">)</m:t>
                                        </m:r>
                                        <m:r>
                                          <m:t xml:space="preserve">Z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1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18"/>
              <p:cNvSpPr txBox="1"/>
              <p:nvPr/>
            </p:nvSpPr>
            <p:spPr>
              <a:xfrm>
                <a:off x="3059280" y="3933720"/>
                <a:ext cx="25923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р</m:t>
                        </m:r>
                      </m:sub>
                      <m:sup>
                        <m:r>
                          <m:t xml:space="preserve">i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В</m:t>
                                </m:r>
                              </m:num>
                              <m:den>
                                <m:r>
                                  <m:t xml:space="preserve">А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X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BL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Z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3" name="Rectangle 20"/>
          <p:cNvSpPr/>
          <p:nvPr/>
        </p:nvSpPr>
        <p:spPr>
          <a:xfrm>
            <a:off x="0" y="67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ЗОННАЯ МОДЕЛЬ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-757440" y="260280"/>
            <a:ext cx="990108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2" marL="10285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02852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ru-RU" sz="2000" spc="-1" strike="noStrike" u="sng">
                <a:solidFill>
                  <a:srgbClr val="333333"/>
                </a:solidFill>
                <a:uFillTx/>
                <a:latin typeface="Times New Roman"/>
              </a:rPr>
              <a:t>Среднезонные величины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температуры, плотности, массовых концентраций кислорода, токсичных продуктов горения и оптической концентрации дыма, а также средние температуры ограждающих конструкций и усредненные характеристики теплогазообмена через проемы.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2852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2852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2852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2852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2852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2852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2852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2852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2852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2852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285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Рис. 1. Схема тепломассообмена :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– стены;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– перекрытие;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3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- открытый проем;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4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- горючий материал;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5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- очаг горения;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6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- нейтральная плоскость;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7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- система пожаротушения;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8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- механическая приточно-вытяжная вентиляция;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II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</a:rPr>
              <a:t>III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- номера зон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6" name="Comment 4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0" y="18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79" name="Object 7"/>
          <p:cNvGraphicFramePr/>
          <p:nvPr/>
        </p:nvGraphicFramePr>
        <p:xfrm>
          <a:off x="1332000" y="1916280"/>
          <a:ext cx="5775120" cy="30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916280"/>
                    <a:ext cx="5775120" cy="30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3640" y="119664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ЗОННАЯ МОДЕЛЬ</a:t>
            </a:r>
            <a:br>
              <a:rPr sz="24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основные упрощения термогазодинамической картины пожара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-757440" y="333360"/>
            <a:ext cx="990108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131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 algn="just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газовая смесь состоит из идеальных газов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 algn="just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рипотолочный слой является плоскопараллельным потолку, равномерно прогретым и задымленным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 algn="just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состояние газовой среды помещения и параметры тепломассообмена в каждый момент времени однозначно определяются среднезонными значениями параметров состояния газовой среды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 algn="just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геометрическое положение пожарной нагрузки в помещении не влияет на параметры тепломассообмена через открытые проемы с окружающей средой и теплоотвода в ограждающие конструкции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" name="Comment 4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3640" y="692280"/>
            <a:ext cx="830556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ЗОННАЯ МОДЕЛЬ</a:t>
            </a:r>
            <a:br>
              <a:rPr sz="24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структура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-613080" y="1989000"/>
            <a:ext cx="990108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7" name="Comment 4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4176720" y="1533600"/>
            <a:ext cx="3490920" cy="81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Дополнительные соотношения интегральной модели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395280" y="4724280"/>
            <a:ext cx="3024360" cy="10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Модель прогрева ограждающих строительных конструкций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4716360" y="3284640"/>
            <a:ext cx="15559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Модель горения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6588000" y="3284640"/>
            <a:ext cx="241164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Модель газификации горючего материала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3" name="Text Box 11"/>
          <p:cNvSpPr/>
          <p:nvPr/>
        </p:nvSpPr>
        <p:spPr>
          <a:xfrm>
            <a:off x="3564000" y="4797360"/>
            <a:ext cx="2808360" cy="9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Модель тепломассообмена через открытые проемы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4" name="Line 12"/>
          <p:cNvSpPr/>
          <p:nvPr/>
        </p:nvSpPr>
        <p:spPr>
          <a:xfrm>
            <a:off x="3348000" y="1916280"/>
            <a:ext cx="792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5" name="Line 13"/>
          <p:cNvSpPr/>
          <p:nvPr/>
        </p:nvSpPr>
        <p:spPr>
          <a:xfrm>
            <a:off x="5508720" y="2349360"/>
            <a:ext cx="0" cy="9352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6" name="Line 14"/>
          <p:cNvSpPr/>
          <p:nvPr/>
        </p:nvSpPr>
        <p:spPr>
          <a:xfrm>
            <a:off x="7236000" y="2349360"/>
            <a:ext cx="0" cy="9352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7" name="Line 15"/>
          <p:cNvSpPr/>
          <p:nvPr/>
        </p:nvSpPr>
        <p:spPr>
          <a:xfrm>
            <a:off x="4427640" y="2349360"/>
            <a:ext cx="0" cy="2448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8" name="Line 16"/>
          <p:cNvSpPr/>
          <p:nvPr/>
        </p:nvSpPr>
        <p:spPr>
          <a:xfrm flipH="1">
            <a:off x="2987280" y="2349360"/>
            <a:ext cx="1297080" cy="237492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9" name="Text Box 17"/>
          <p:cNvSpPr/>
          <p:nvPr/>
        </p:nvSpPr>
        <p:spPr>
          <a:xfrm>
            <a:off x="900000" y="2637000"/>
            <a:ext cx="2448000" cy="93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Основные уравнения для зоны конвективной колонки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900000" y="1484280"/>
            <a:ext cx="2448000" cy="9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Основные уравнения для зоны припотолочного слоя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1" name="Line 19"/>
          <p:cNvSpPr/>
          <p:nvPr/>
        </p:nvSpPr>
        <p:spPr>
          <a:xfrm flipV="1">
            <a:off x="2124000" y="2421000"/>
            <a:ext cx="0" cy="216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4c2b"/>
                </a:solidFill>
                <a:latin typeface="Times New Roman"/>
              </a:rPr>
              <a:t>Содержание</a:t>
            </a:r>
            <a:br>
              <a:rPr sz="2800"/>
            </a:b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8893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 algn="just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1. Введение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990720" indent="0" algn="just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2. Опасные факторы пожара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99072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3. Основные задачи расчета динамики ОФП и их место при решении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99072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практических задач пожарной безопасности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990720" indent="0" algn="just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4. Классификация современных методов расчета динамики ОФП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990720" indent="0" algn="just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5. Интегральные методы расчета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990720" indent="0" algn="just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6. Зонные методы расчета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990720" indent="0" algn="just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7. Полевые методы расчета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990720" indent="0" algn="just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8. Выбор модели для расчета динамики ОФП. Программы для расчета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990720" indent="0" algn="just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9. Заключение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371600" indent="0" algn="just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Comment 4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ЗОННАЯ МОДЕЛЬ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3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0" y="692280"/>
            <a:ext cx="914400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Основные преимущества: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быстрый и низкотрудоемкий инженерный расчет динамики опасных факторов пожара;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- используются 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закономерности теплового и гидродинамического взаимодействия струйного течения со строительными конструкциями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с условным разбиением  на  характерные области (критическая точка, область ускоренного течения, переходная область и область автомодельного течения). 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0" y="2997360"/>
            <a:ext cx="9144000" cy="41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ОСНОВНЫЕ НЕДОСТАТКИ: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область 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корректного применения зонной модели (по объемам и геометрии помещений, расположению горючего материала и т.д.)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является 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нерешенной проблемой;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необходимость использования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дополнительной экспериментальной информации или модели более высокого уровня (полевой)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для получения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распределения параметров тепломассообмена по объемам зон помещения;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в случае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 сложной термогазодинамической картины пожара основные допущения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зонной модели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(равномерно прогретый припотолочный слой и т.д.)</a:t>
            </a: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</a:rPr>
              <a:t> не соответствуют реальным условиям.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8" name="Rectangle 10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ПОЛЕВАЯ (ДИФФЕРЕНЦИАЛЬНАЯ) МОДЕЛЬ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0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0" y="69228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Наиболее подробное описание процессов тепломассообмена при пожаре в помещении дают </a:t>
            </a: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полевые (дифференциальные) модели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Основным их достоинством является то, что искомыми параметрами являются </a:t>
            </a: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поля температур, скоростей, давлений, концентраций компонентов газовой среды и частиц дыма по всему объему помещения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олевые модели наиболее сложны в математическом описании, так как они состоят из системы трех- или двумерных нестационарных дифференциальных уравнений в частных производных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8305560" cy="14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ПОЛЕВАЯ (ДИФФЕРЕНЦИАЛЬНАЯ) МОДЕЛЬ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6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20" name="Picture 2" descr="T1X"/>
          <p:cNvPicPr/>
          <p:nvPr/>
        </p:nvPicPr>
        <p:blipFill>
          <a:blip r:embed="rId1"/>
          <a:stretch/>
        </p:blipFill>
        <p:spPr>
          <a:xfrm>
            <a:off x="785880" y="1285920"/>
            <a:ext cx="7643880" cy="4000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21" name="Прямоугольник 10"/>
          <p:cNvSpPr/>
          <p:nvPr/>
        </p:nvSpPr>
        <p:spPr>
          <a:xfrm>
            <a:off x="2286000" y="53848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оля температур в помещении при пожаре (поперечное сечение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ПОЛЕВАЯ (ДИФФЕРЕНЦИАЛЬНАЯ) МОДЕЛЬ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3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0" y="692280"/>
            <a:ext cx="9144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Пожар в помещении протекает в сложных термогазодинамических условиях при </a:t>
            </a:r>
            <a:r>
              <a:rPr b="1" lang="ru-RU" sz="2000" spc="-1" strike="noStrike" u="sng">
                <a:solidFill>
                  <a:srgbClr val="333333"/>
                </a:solidFill>
                <a:uFillTx/>
                <a:latin typeface="Times New Roman"/>
              </a:rPr>
              <a:t>одновременном воздействии ряда возмущающих течение факторов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неизотермичность (отличие температур твердых поверхностей и газовых потоков)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сжимаемость (плотность газа не является постоянной величиной)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продольный и поперечный градиенты давления;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вдув на стенке (поступление в помещение продуктов внутренней деструктуризации материала твердых конструкций, тепломассообменная защита конструкций)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излучение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протекание химических реакций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двухфазность (одновременное сосуществование нескольких фаз – газ +твердые частицы, газ+жидкость, газ+твердые частицы+жидкость)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шероховатость поверхностей конструкций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кривизна поверхности;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турбулентность;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скачки уплотнения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переход ламинарного режима течения в турбулентный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ПОЛЕВАЯ (ДИФФЕРЕНЦИАЛЬНАЯ) МОДЕЛЬ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9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0" y="692280"/>
            <a:ext cx="9144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33"/>
                </a:solidFill>
                <a:uFillTx/>
                <a:latin typeface="Times New Roman"/>
              </a:rPr>
              <a:t>Допущения и упрощения реальной термогазодинамической картины процесса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существует локальное термодинамическое и химическое равновесие во всем объеме помещения, что позволяет использовать равновесное уравнение состояния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газовая среда является смесью идеальных газов, что дает удовлетворительное приближение в диапазонах температур и давлений, характерных при пожаре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локальные скорости и температуры компонентов газовой смеси и твердых (или жидких) частиц одинаковы между собой в каждой точке пространства (односкоростная и однотемпературная модель)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химическая реакция горения является одноступенчатой и необратимой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диссоциация и ионизация среды при высоких температурах не учитывается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турбулентные пульсации не влияют на теплофизические свойства среды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взаимным влиянием турбулентности и излучения пренебрегаем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пренебрегается обратным влиянием горения на скорость газификации горючего материала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термо- и бародиффузией пренебрегаем.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3640" y="692280"/>
            <a:ext cx="830556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ПОЛЕВАЯ (ДИФФЕРЕНЦИАЛЬНАЯ) МОДЕЛЬ</a:t>
            </a:r>
            <a:br>
              <a:rPr sz="24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структура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1285560"/>
            <a:ext cx="9144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r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6" name="Comment 4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952560" y="1577880"/>
            <a:ext cx="2395440" cy="843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Основные уравнения интегральной модели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4176720" y="1533600"/>
            <a:ext cx="3490920" cy="81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Дополнительные соотношения интегральной модели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1042920" y="3141720"/>
            <a:ext cx="3024360" cy="100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Модель прогрева ограждающих строительных конструкций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4716360" y="3284640"/>
            <a:ext cx="15559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Модель горения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6588000" y="3284640"/>
            <a:ext cx="241164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Модель газификации горючего материала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3" name="Text Box 11"/>
          <p:cNvSpPr/>
          <p:nvPr/>
        </p:nvSpPr>
        <p:spPr>
          <a:xfrm>
            <a:off x="1928880" y="4797360"/>
            <a:ext cx="2808360" cy="9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Модель  турбулентного тепломассообмена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4" name="Line 12"/>
          <p:cNvSpPr/>
          <p:nvPr/>
        </p:nvSpPr>
        <p:spPr>
          <a:xfrm>
            <a:off x="3348000" y="1916280"/>
            <a:ext cx="792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5" name="Line 13"/>
          <p:cNvSpPr/>
          <p:nvPr/>
        </p:nvSpPr>
        <p:spPr>
          <a:xfrm>
            <a:off x="5508720" y="2349360"/>
            <a:ext cx="0" cy="9352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6" name="Line 14"/>
          <p:cNvSpPr/>
          <p:nvPr/>
        </p:nvSpPr>
        <p:spPr>
          <a:xfrm>
            <a:off x="7236000" y="2349360"/>
            <a:ext cx="0" cy="9352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7" name="Line 15"/>
          <p:cNvSpPr/>
          <p:nvPr/>
        </p:nvSpPr>
        <p:spPr>
          <a:xfrm>
            <a:off x="4427640" y="2349360"/>
            <a:ext cx="0" cy="2448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8" name="Line 16"/>
          <p:cNvSpPr/>
          <p:nvPr/>
        </p:nvSpPr>
        <p:spPr>
          <a:xfrm flipH="1">
            <a:off x="3492000" y="2349360"/>
            <a:ext cx="792360" cy="79236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9" name="Прямоугольник 16"/>
          <p:cNvSpPr/>
          <p:nvPr/>
        </p:nvSpPr>
        <p:spPr>
          <a:xfrm>
            <a:off x="5715000" y="4786200"/>
            <a:ext cx="2786040" cy="928800"/>
          </a:xfrm>
          <a:prstGeom prst="rect">
            <a:avLst/>
          </a:prstGeom>
          <a:noFill/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Модель радиационного теплообмена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0" name="Line 15"/>
          <p:cNvSpPr/>
          <p:nvPr/>
        </p:nvSpPr>
        <p:spPr>
          <a:xfrm>
            <a:off x="6429240" y="2357280"/>
            <a:ext cx="0" cy="2448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4462560" y="50472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6" name="Rectangle 28"/>
          <p:cNvSpPr/>
          <p:nvPr/>
        </p:nvSpPr>
        <p:spPr>
          <a:xfrm>
            <a:off x="0" y="50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7" name="Rectangle 33"/>
          <p:cNvSpPr/>
          <p:nvPr/>
        </p:nvSpPr>
        <p:spPr>
          <a:xfrm>
            <a:off x="0" y="50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8" name="Rectangle 34"/>
          <p:cNvSpPr/>
          <p:nvPr/>
        </p:nvSpPr>
        <p:spPr>
          <a:xfrm>
            <a:off x="0" y="50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1403280" y="620640"/>
          <a:ext cx="6811920" cy="5708880"/>
        </p:xfrm>
        <a:graphic>
          <a:graphicData uri="http://schemas.openxmlformats.org/drawingml/2006/table">
            <a:tbl>
              <a:tblPr/>
              <a:tblGrid>
                <a:gridCol w="360360"/>
                <a:gridCol w="540000"/>
                <a:gridCol w="1268280"/>
                <a:gridCol w="46432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0" lang="ru-RU" sz="1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Ф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r>
                        <a:rPr b="0" i="1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r>
                        <a:rPr b="0" i="1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r>
                        <a:rPr b="0" i="1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O2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O2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O2т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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-L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O2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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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/∆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-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L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O2Н2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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H2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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H2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/∆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COт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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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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/∆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CO2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CO2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CO2т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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CO2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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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/∆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H2O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H2O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H2Oт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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Н2О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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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/∆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+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H2OН2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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H2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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H2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/∆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H2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H2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H2т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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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H2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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H2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/∆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ов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ов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овт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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ов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/∆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гт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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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(1-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</a:t>
                      </a: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/∆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ru-RU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оп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ru-RU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опг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</a:t>
                      </a:r>
                      <a:r>
                        <a:rPr b="0" lang="ru-RU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/∆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ru-RU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ru-RU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мг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</a:t>
                      </a:r>
                      <a:r>
                        <a:rPr b="0" lang="ru-RU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/∆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i="1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i="1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i="1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i="1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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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r>
                        <a:rPr b="0" lang="en-US" sz="1200" spc="-1" strike="noStrike" baseline="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/∆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en-US" sz="1200" spc="-1" strike="noStrike" baseline="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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H2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Symbol"/>
                          <a:ea typeface="Symbol"/>
                        </a:rPr>
                        <a:t>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H2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H2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/∆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i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0" lang="en-US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1200" spc="-1" strike="noStrike" baseline="-30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" name="Rectangle 463"/>
          <p:cNvSpPr/>
          <p:nvPr/>
        </p:nvSpPr>
        <p:spPr>
          <a:xfrm>
            <a:off x="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462"/>
              <p:cNvSpPr txBox="1"/>
              <p:nvPr/>
            </p:nvSpPr>
            <p:spPr>
              <a:xfrm>
                <a:off x="3851280" y="1341360"/>
                <a:ext cx="37879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¶</m:t>
                        </m:r>
                      </m:num>
                      <m:den>
                        <m:r>
                          <m:t xml:space="preserve">¶</m:t>
                        </m:r>
                        <m:r>
                          <m:t xml:space="preserve">x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G</m:t>
                        </m:r>
                        <m:f>
                          <m:num>
                            <m:r>
                              <m:t xml:space="preserve">¶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¶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¶</m:t>
                        </m:r>
                      </m:num>
                      <m:den>
                        <m:r>
                          <m:t xml:space="preserve">¶</m:t>
                        </m:r>
                        <m:r>
                          <m:t xml:space="preserve">y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G</m:t>
                        </m:r>
                        <m:f>
                          <m:num>
                            <m:r>
                              <m:t xml:space="preserve">¶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¶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¶</m:t>
                        </m:r>
                      </m:num>
                      <m:den>
                        <m:r>
                          <m:t xml:space="preserve">¶</m:t>
                        </m:r>
                        <m:r>
                          <m:t xml:space="preserve">z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G</m:t>
                        </m:r>
                        <m:f>
                          <m:num>
                            <m:r>
                              <m:t xml:space="preserve">¶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¶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t xml:space="preserve">¶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¶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f>
                      <m:num>
                        <m:r>
                          <m:t xml:space="preserve">¶</m:t>
                        </m:r>
                      </m:num>
                      <m:den>
                        <m:r>
                          <m:t xml:space="preserve">¶</m:t>
                        </m:r>
                        <m:r>
                          <m:t xml:space="preserve">x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div</m:t>
                        </m:r>
                        <m:r>
                          <m:t xml:space="preserve">w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2" name="Rectangle 465"/>
          <p:cNvSpPr/>
          <p:nvPr/>
        </p:nvSpPr>
        <p:spPr>
          <a:xfrm>
            <a:off x="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464"/>
              <p:cNvSpPr txBox="1"/>
              <p:nvPr/>
            </p:nvSpPr>
            <p:spPr>
              <a:xfrm>
                <a:off x="3851280" y="1844640"/>
                <a:ext cx="375588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¶</m:t>
                        </m:r>
                      </m:num>
                      <m:den>
                        <m:r>
                          <m:t xml:space="preserve">¶</m:t>
                        </m:r>
                        <m:r>
                          <m:t xml:space="preserve">x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G</m:t>
                        </m:r>
                        <m:f>
                          <m:num>
                            <m:r>
                              <m:t xml:space="preserve">¶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¶</m:t>
                            </m:r>
                            <m:r>
                              <m:t xml:space="preserve">y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¶</m:t>
                        </m:r>
                      </m:num>
                      <m:den>
                        <m:r>
                          <m:t xml:space="preserve">¶</m:t>
                        </m:r>
                        <m:r>
                          <m:t xml:space="preserve">y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G</m:t>
                        </m:r>
                        <m:f>
                          <m:num>
                            <m:r>
                              <m:t xml:space="preserve">¶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¶</m:t>
                            </m:r>
                            <m:r>
                              <m:t xml:space="preserve">y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¶</m:t>
                        </m:r>
                      </m:num>
                      <m:den>
                        <m:r>
                          <m:t xml:space="preserve">¶</m:t>
                        </m:r>
                        <m:r>
                          <m:t xml:space="preserve">z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G</m:t>
                        </m:r>
                        <m:f>
                          <m:num>
                            <m:r>
                              <m:t xml:space="preserve">¶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¶</m:t>
                            </m:r>
                            <m:r>
                              <m:t xml:space="preserve">y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t xml:space="preserve">¶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¶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f>
                      <m:num>
                        <m:r>
                          <m:t xml:space="preserve">¶</m:t>
                        </m:r>
                      </m:num>
                      <m:den>
                        <m:r>
                          <m:t xml:space="preserve">¶</m:t>
                        </m:r>
                        <m:r>
                          <m:t xml:space="preserve">y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div</m:t>
                        </m:r>
                        <m:r>
                          <m:t xml:space="preserve">w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4" name="Rectangle 467"/>
          <p:cNvSpPr/>
          <p:nvPr/>
        </p:nvSpPr>
        <p:spPr>
          <a:xfrm>
            <a:off x="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Object 466"/>
              <p:cNvSpPr txBox="1"/>
              <p:nvPr/>
            </p:nvSpPr>
            <p:spPr>
              <a:xfrm>
                <a:off x="3851280" y="2421000"/>
                <a:ext cx="34052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Γ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Γ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Γ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Γ</m:t>
                        </m:r>
                        <m:r>
                          <m:rPr>
                            <m:lit/>
                            <m:nor/>
                          </m:rPr>
                          <m:t xml:space="preserve">div</m:t>
                        </m:r>
                        <m:r>
                          <m:t xml:space="preserve">w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6" name="Rectangle 469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468"/>
              <p:cNvSpPr txBox="1"/>
              <p:nvPr/>
            </p:nvSpPr>
            <p:spPr>
              <a:xfrm>
                <a:off x="7236000" y="2421000"/>
                <a:ext cx="65088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ρ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8" name="Rectangle 471"/>
          <p:cNvSpPr/>
          <p:nvPr/>
        </p:nvSpPr>
        <p:spPr>
          <a:xfrm>
            <a:off x="0" y="318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470"/>
              <p:cNvSpPr txBox="1"/>
              <p:nvPr/>
            </p:nvSpPr>
            <p:spPr>
              <a:xfrm>
                <a:off x="2771640" y="0"/>
                <a:ext cx="41054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¶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¶t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ρF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iv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ρwF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iv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grad</m:t>
                        </m:r>
                        <m:r>
                          <m:t xml:space="preserve">F</m:t>
                        </m:r>
                      </m:e>
                    </m:d>
                    <m:r>
                      <m:t xml:space="preserve">+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0" name="Rectangle 472"/>
          <p:cNvSpPr/>
          <p:nvPr/>
        </p:nvSpPr>
        <p:spPr>
          <a:xfrm>
            <a:off x="0" y="367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ВЫБОР МОДЕЛИ ДЛЯ РАСЧЕТА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2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4" name="Text Box 5"/>
          <p:cNvSpPr/>
          <p:nvPr/>
        </p:nvSpPr>
        <p:spPr>
          <a:xfrm>
            <a:off x="214200" y="333360"/>
            <a:ext cx="87156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33"/>
                </a:solidFill>
                <a:latin typeface="Times New Roman"/>
              </a:rPr>
              <a:t>Интегральная модель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для зданий и сооружений, содержащих развитую систему помещений малого объема простой геометрической конфигурации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проведении имитационного моделирования для случаев, когда учет стохастического характера пожара является более важным, чем точное и детальное прогнозирование его характеристик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для помещений, где характерный размер очага пожара соизмерим с характерным размером помещения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ВЫБОР МОДЕЛИ ДЛЯ РАСЧЕТА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8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214200" y="333360"/>
            <a:ext cx="87156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33"/>
                </a:solidFill>
                <a:latin typeface="Times New Roman"/>
              </a:rPr>
              <a:t>Зонная модель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для помещений и систем помещений простой геометрической конфигурации, линейные размеры которых соизмеримы между собой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для помещений большого объема, когда размер очага пожара существенно меньше размеров помещения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для рабочих зон, расположенных на разных уровнях в пределах одного помещения (наклонный зрительный зал кинотеатра, антресоли и т.д)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ВЫБОР МОДЕЛИ ДЛЯ РАСЧЕТА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84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214200" y="333360"/>
            <a:ext cx="871560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33"/>
                </a:solidFill>
                <a:latin typeface="Times New Roman"/>
              </a:rPr>
              <a:t>Полевая (дифференциальная) модель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для помещений сложной геометрической конфигурации, а также помещений с большим количеством внутренних преград (атриумы с системой галерей и примыкающих коридоров, многофункциональные центры со сложной системой вертикальных и горизонтальных связей и т.д.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для помещений, в которых один из геометрических размеров гораздо больше (меньше) остальных (тоннели, закрытые автостоянки большой площади и.т.д.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для иных случаев, когда применимость или информативность зонных и интегральных моделей вызывает сомнение (уникальные сооружения, распространение пожара по фасаду здания, необходимость учета работы систем противопожарной защиты, способных качественно изменить картину пожара, и т.д.)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4c2b"/>
                </a:solidFill>
                <a:latin typeface="Times New Roman"/>
              </a:rPr>
              <a:t>Введение</a:t>
            </a:r>
            <a:br>
              <a:rPr sz="2800"/>
            </a:b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-360" y="549360"/>
            <a:ext cx="88930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В связи с переходом многих стран мира к </a:t>
            </a: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гибкому объектно ориентированному противопожарному нормированию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математическое моделирование пожаров становится определяющим звеном при решении различных задач пожарной безопасности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Вопрос </a:t>
            </a: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точности и надежности метода расчета тепломассообмена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при пожаре является </a:t>
            </a: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ключевым в обеспечении безопасности людей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, при выборе параметров систем противопожарной защиты и при проведении противопожарных мероприятий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В </a:t>
            </a: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российских стандартах безопасности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(ГОСТ 12.1.004-91 и др.)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были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заложены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упрощенные методы расчета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неадекватные реальной термогазодинамической картине пожара и приводящие в ряде случаев к </a:t>
            </a:r>
            <a:r>
              <a:rPr b="1" i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занижению необходимого времени эвакуации людей в 2-3 раза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Comment 4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ПРОГРАММЫ ДЛЯ РАСЧЕТА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90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214200" y="714240"/>
            <a:ext cx="8715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В качестве примера компьютерных программ, реализующих полевой метод моделирования, которые достаточно точно описывают поля скоростей, температур и концентраций на начальной стадии пожара, можно привести такие программные продукты как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HOENICS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JASMINE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OFIE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FDS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FLUENT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FX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. Вместе с тем для проведения расчетов могут быть использованы и другие программные комплексы, апробированные на основе сравнения с экспериментальными данными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50560" y="638280"/>
            <a:ext cx="830556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ПРИМЕР  РАСЧЕТА С ИСПОЛЬЗОВАНИЕМ ПОЛЕВОЙ МОДЕЛИ ПОЖАРА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96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214200" y="1285920"/>
            <a:ext cx="8715600" cy="41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РАСЧЕТНОЕ ОБОСНОВАНИЕ БЕЗОПАСНОЙ ЭВАКУАЦИИ ЛЮДЕЙ ПРИ ВОЗНИКНОВЕНИИ ПОЖАРА В ТОРГОВОМ ЦЕНТРЕ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Для определения необходимого времени эвакуации из помещения высотой более 6 м (многосветное пространство) была составлена 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трехмерная модель части здания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Для проведения расчетов использована полевая (дифференциальная) модель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FDS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Fire Dynamic Simulator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Трехмерная модель части здания (вид А)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2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06" name="Group 29"/>
          <p:cNvGrpSpPr/>
          <p:nvPr/>
        </p:nvGrpSpPr>
        <p:grpSpPr>
          <a:xfrm>
            <a:off x="1428840" y="684360"/>
            <a:ext cx="6643440" cy="5459040"/>
            <a:chOff x="1428840" y="684360"/>
            <a:chExt cx="6643440" cy="5459040"/>
          </a:xfrm>
        </p:grpSpPr>
        <p:pic>
          <p:nvPicPr>
            <p:cNvPr id="307" name="Picture 30" descr=""/>
            <p:cNvPicPr/>
            <p:nvPr/>
          </p:nvPicPr>
          <p:blipFill>
            <a:blip r:embed="rId1"/>
            <a:stretch/>
          </p:blipFill>
          <p:spPr>
            <a:xfrm>
              <a:off x="1428840" y="1159560"/>
              <a:ext cx="6643440" cy="440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Text Box 32"/>
            <p:cNvSpPr/>
            <p:nvPr/>
          </p:nvSpPr>
          <p:spPr>
            <a:xfrm>
              <a:off x="4063680" y="5509800"/>
              <a:ext cx="209628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Источник пожара 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на этаже на отметке -3.900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Размеры 2х3х2 м.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9" name="Text Box 33"/>
            <p:cNvSpPr/>
            <p:nvPr/>
          </p:nvSpPr>
          <p:spPr>
            <a:xfrm>
              <a:off x="1738440" y="5113800"/>
              <a:ext cx="119628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Перегородки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0" name="Line 34"/>
            <p:cNvSpPr/>
            <p:nvPr/>
          </p:nvSpPr>
          <p:spPr>
            <a:xfrm flipV="1">
              <a:off x="5601240" y="5017320"/>
              <a:ext cx="542160" cy="55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1" name="Text Box 35"/>
            <p:cNvSpPr/>
            <p:nvPr/>
          </p:nvSpPr>
          <p:spPr>
            <a:xfrm>
              <a:off x="7032960" y="4470120"/>
              <a:ext cx="82512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1-й этаж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2" name="Text Box 36"/>
            <p:cNvSpPr/>
            <p:nvPr/>
          </p:nvSpPr>
          <p:spPr>
            <a:xfrm>
              <a:off x="7032960" y="3612240"/>
              <a:ext cx="82512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2-й этаж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3" name="Text Box 37"/>
            <p:cNvSpPr/>
            <p:nvPr/>
          </p:nvSpPr>
          <p:spPr>
            <a:xfrm>
              <a:off x="7032240" y="2827440"/>
              <a:ext cx="82584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3-й этаж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4" name="Text Box 38"/>
            <p:cNvSpPr/>
            <p:nvPr/>
          </p:nvSpPr>
          <p:spPr>
            <a:xfrm>
              <a:off x="7032240" y="2111760"/>
              <a:ext cx="82584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4-й этаж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5" name="Line 39"/>
            <p:cNvSpPr/>
            <p:nvPr/>
          </p:nvSpPr>
          <p:spPr>
            <a:xfrm flipV="1">
              <a:off x="2215080" y="3183840"/>
              <a:ext cx="491760" cy="18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6" name="Line 40"/>
            <p:cNvSpPr/>
            <p:nvPr/>
          </p:nvSpPr>
          <p:spPr>
            <a:xfrm flipV="1">
              <a:off x="2215080" y="3870720"/>
              <a:ext cx="1034280" cy="120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7" name="Line 41"/>
            <p:cNvSpPr/>
            <p:nvPr/>
          </p:nvSpPr>
          <p:spPr>
            <a:xfrm flipV="1">
              <a:off x="2215080" y="4376160"/>
              <a:ext cx="1809360" cy="69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8" name="Text Box 42"/>
            <p:cNvSpPr/>
            <p:nvPr/>
          </p:nvSpPr>
          <p:spPr>
            <a:xfrm>
              <a:off x="5962320" y="5041080"/>
              <a:ext cx="141516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подвальный этаж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9" name="Text Box 43"/>
            <p:cNvSpPr/>
            <p:nvPr/>
          </p:nvSpPr>
          <p:spPr>
            <a:xfrm>
              <a:off x="4334040" y="684360"/>
              <a:ext cx="109512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Длина= 47 м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0" name="AutoShape 44"/>
            <p:cNvSpPr/>
            <p:nvPr/>
          </p:nvSpPr>
          <p:spPr>
            <a:xfrm rot="5400000">
              <a:off x="4673880" y="-1958400"/>
              <a:ext cx="180720" cy="6044400"/>
            </a:xfrm>
            <a:custGeom>
              <a:avLst/>
              <a:gdLst>
                <a:gd name="textAreaLeft" fmla="*/ 115560 w 180720"/>
                <a:gd name="textAreaRight" fmla="*/ 181080 w 180720"/>
                <a:gd name="textAreaTop" fmla="*/ 157320 h 6044400"/>
                <a:gd name="textAreaBottom" fmla="*/ 5887080 h 604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Трехмерная модель части здания (вид Б)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22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5" name="Rectangle 7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26" name="Group 29"/>
          <p:cNvGrpSpPr/>
          <p:nvPr/>
        </p:nvGrpSpPr>
        <p:grpSpPr>
          <a:xfrm>
            <a:off x="2103480" y="928800"/>
            <a:ext cx="6254640" cy="5000040"/>
            <a:chOff x="2103480" y="928800"/>
            <a:chExt cx="6254640" cy="5000040"/>
          </a:xfrm>
        </p:grpSpPr>
        <p:pic>
          <p:nvPicPr>
            <p:cNvPr id="327" name="Picture 45" descr=""/>
            <p:cNvPicPr/>
            <p:nvPr/>
          </p:nvPicPr>
          <p:blipFill>
            <a:blip r:embed="rId1"/>
            <a:stretch/>
          </p:blipFill>
          <p:spPr>
            <a:xfrm>
              <a:off x="2103480" y="928800"/>
              <a:ext cx="4754160" cy="442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Text Box 46"/>
            <p:cNvSpPr/>
            <p:nvPr/>
          </p:nvSpPr>
          <p:spPr>
            <a:xfrm>
              <a:off x="5670360" y="4257360"/>
              <a:ext cx="758520" cy="3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1-й этаж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9" name="Text Box 47"/>
            <p:cNvSpPr/>
            <p:nvPr/>
          </p:nvSpPr>
          <p:spPr>
            <a:xfrm>
              <a:off x="5670360" y="3471120"/>
              <a:ext cx="758520" cy="3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2-й этаж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0" name="Text Box 48"/>
            <p:cNvSpPr/>
            <p:nvPr/>
          </p:nvSpPr>
          <p:spPr>
            <a:xfrm>
              <a:off x="5670360" y="2524320"/>
              <a:ext cx="758520" cy="31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3-й этаж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1" name="Text Box 49"/>
            <p:cNvSpPr/>
            <p:nvPr/>
          </p:nvSpPr>
          <p:spPr>
            <a:xfrm>
              <a:off x="5670360" y="1726200"/>
              <a:ext cx="758520" cy="3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4-й этаж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2" name="Text Box 50"/>
            <p:cNvSpPr/>
            <p:nvPr/>
          </p:nvSpPr>
          <p:spPr>
            <a:xfrm>
              <a:off x="5199480" y="4828680"/>
              <a:ext cx="1300680" cy="3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подвальный этаж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3" name="Text Box 52"/>
            <p:cNvSpPr/>
            <p:nvPr/>
          </p:nvSpPr>
          <p:spPr>
            <a:xfrm>
              <a:off x="7225560" y="2867400"/>
              <a:ext cx="11325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Высота= 29 м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4" name="AutoShape 53"/>
            <p:cNvSpPr/>
            <p:nvPr/>
          </p:nvSpPr>
          <p:spPr>
            <a:xfrm rot="10800000">
              <a:off x="6903720" y="1172160"/>
              <a:ext cx="239760" cy="3899160"/>
            </a:xfrm>
            <a:custGeom>
              <a:avLst/>
              <a:gdLst>
                <a:gd name="textAreaLeft" fmla="*/ 153360 w 239760"/>
                <a:gd name="textAreaRight" fmla="*/ 240120 w 239760"/>
                <a:gd name="textAreaTop" fmla="*/ 101520 h 3899160"/>
                <a:gd name="textAreaBottom" fmla="*/ 3797640 h 389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5" name="AutoShape 54"/>
            <p:cNvSpPr/>
            <p:nvPr/>
          </p:nvSpPr>
          <p:spPr>
            <a:xfrm flipV="1" rot="16200000">
              <a:off x="4511520" y="3512160"/>
              <a:ext cx="165960" cy="3809880"/>
            </a:xfrm>
            <a:custGeom>
              <a:avLst/>
              <a:gdLst>
                <a:gd name="textAreaLeft" fmla="*/ 106200 w 165960"/>
                <a:gd name="textAreaRight" fmla="*/ 166320 w 165960"/>
                <a:gd name="textAreaTop" fmla="*/ 99360 h 3809880"/>
                <a:gd name="textAreaBottom" fmla="*/ 3710520 h 380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6" name="Text Box 55"/>
            <p:cNvSpPr/>
            <p:nvPr/>
          </p:nvSpPr>
          <p:spPr>
            <a:xfrm>
              <a:off x="3995280" y="5563440"/>
              <a:ext cx="12906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333333"/>
                  </a:solidFill>
                  <a:latin typeface="Calibri"/>
                </a:rPr>
                <a:t>Ширина= 26 м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Трехмерная модель части здания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38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42" name="Group 2"/>
          <p:cNvGrpSpPr/>
          <p:nvPr/>
        </p:nvGrpSpPr>
        <p:grpSpPr>
          <a:xfrm>
            <a:off x="1363680" y="642960"/>
            <a:ext cx="6208560" cy="5285880"/>
            <a:chOff x="1363680" y="642960"/>
            <a:chExt cx="6208560" cy="5285880"/>
          </a:xfrm>
        </p:grpSpPr>
        <p:sp>
          <p:nvSpPr>
            <p:cNvPr id="343" name="Text Box 3"/>
            <p:cNvSpPr/>
            <p:nvPr/>
          </p:nvSpPr>
          <p:spPr>
            <a:xfrm>
              <a:off x="1602360" y="5605920"/>
              <a:ext cx="5826960" cy="32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333333"/>
                  </a:solidFill>
                  <a:latin typeface="Calibri"/>
                </a:rPr>
                <a:t> </a:t>
              </a:r>
              <a:r>
                <a:rPr b="0" lang="ru-RU" sz="2000" spc="-1" strike="noStrike">
                  <a:solidFill>
                    <a:srgbClr val="333333"/>
                  </a:solidFill>
                  <a:latin typeface="Calibri"/>
                </a:rPr>
                <a:t>Система координат трехмерной модели здания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344" name="Picture 4" descr=""/>
            <p:cNvPicPr/>
            <p:nvPr/>
          </p:nvPicPr>
          <p:blipFill>
            <a:blip r:embed="rId1"/>
            <a:stretch/>
          </p:blipFill>
          <p:spPr>
            <a:xfrm>
              <a:off x="1363680" y="642960"/>
              <a:ext cx="6208560" cy="4345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Трехмерная модель части здания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46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9" name="Rectangle 7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50" name="Group 2"/>
          <p:cNvGrpSpPr/>
          <p:nvPr/>
        </p:nvGrpSpPr>
        <p:grpSpPr>
          <a:xfrm>
            <a:off x="1143000" y="500040"/>
            <a:ext cx="6786720" cy="5786640"/>
            <a:chOff x="1143000" y="500040"/>
            <a:chExt cx="6786720" cy="5786640"/>
          </a:xfrm>
        </p:grpSpPr>
        <p:sp>
          <p:nvSpPr>
            <p:cNvPr id="351" name="Text Box 3"/>
            <p:cNvSpPr/>
            <p:nvPr/>
          </p:nvSpPr>
          <p:spPr>
            <a:xfrm>
              <a:off x="1143000" y="6063480"/>
              <a:ext cx="6786720" cy="22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333333"/>
                  </a:solidFill>
                  <a:latin typeface="Calibri"/>
                </a:rPr>
                <a:t> </a:t>
              </a:r>
              <a:r>
                <a:rPr b="0" lang="ru-RU" sz="1400" spc="-1" strike="noStrike">
                  <a:solidFill>
                    <a:srgbClr val="333333"/>
                  </a:solidFill>
                  <a:latin typeface="Calibri"/>
                </a:rPr>
                <a:t>Температура в здании через 1, 3, 5 и 10 минут после начала пожара.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352" name="Picture 4" descr=""/>
            <p:cNvPicPr/>
            <p:nvPr/>
          </p:nvPicPr>
          <p:blipFill>
            <a:blip r:embed="rId1"/>
            <a:stretch/>
          </p:blipFill>
          <p:spPr>
            <a:xfrm>
              <a:off x="2490120" y="508320"/>
              <a:ext cx="387000" cy="245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Picture 5" descr=""/>
            <p:cNvPicPr/>
            <p:nvPr/>
          </p:nvPicPr>
          <p:blipFill>
            <a:blip r:embed="rId2"/>
            <a:stretch/>
          </p:blipFill>
          <p:spPr>
            <a:xfrm>
              <a:off x="2490120" y="3412080"/>
              <a:ext cx="387000" cy="245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Picture 6" descr=""/>
            <p:cNvPicPr/>
            <p:nvPr/>
          </p:nvPicPr>
          <p:blipFill>
            <a:blip r:embed="rId3"/>
            <a:stretch/>
          </p:blipFill>
          <p:spPr>
            <a:xfrm>
              <a:off x="3027960" y="500040"/>
              <a:ext cx="3085920" cy="13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Picture 7" descr=""/>
            <p:cNvPicPr/>
            <p:nvPr/>
          </p:nvPicPr>
          <p:blipFill>
            <a:blip r:embed="rId4"/>
            <a:stretch/>
          </p:blipFill>
          <p:spPr>
            <a:xfrm>
              <a:off x="3027960" y="1866960"/>
              <a:ext cx="3105000" cy="13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8" descr=""/>
            <p:cNvPicPr/>
            <p:nvPr/>
          </p:nvPicPr>
          <p:blipFill>
            <a:blip r:embed="rId5"/>
            <a:stretch/>
          </p:blipFill>
          <p:spPr>
            <a:xfrm>
              <a:off x="3027960" y="3234600"/>
              <a:ext cx="3095640" cy="13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Picture 9" descr=""/>
            <p:cNvPicPr/>
            <p:nvPr/>
          </p:nvPicPr>
          <p:blipFill>
            <a:blip r:embed="rId6"/>
            <a:stretch/>
          </p:blipFill>
          <p:spPr>
            <a:xfrm>
              <a:off x="3027960" y="4601880"/>
              <a:ext cx="3095640" cy="1346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Трехмерная модель части здания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9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2" name="Rectangle 7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63" name="Group 2"/>
          <p:cNvGrpSpPr/>
          <p:nvPr/>
        </p:nvGrpSpPr>
        <p:grpSpPr>
          <a:xfrm>
            <a:off x="1857240" y="357120"/>
            <a:ext cx="5857920" cy="5929560"/>
            <a:chOff x="1857240" y="357120"/>
            <a:chExt cx="5857920" cy="5929560"/>
          </a:xfrm>
        </p:grpSpPr>
        <p:sp>
          <p:nvSpPr>
            <p:cNvPr id="364" name="Text Box 3"/>
            <p:cNvSpPr/>
            <p:nvPr/>
          </p:nvSpPr>
          <p:spPr>
            <a:xfrm>
              <a:off x="1857240" y="5718600"/>
              <a:ext cx="585792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333333"/>
                  </a:solidFill>
                  <a:latin typeface="Calibri"/>
                </a:rPr>
                <a:t> </a:t>
              </a:r>
              <a:r>
                <a:rPr b="0" lang="ru-RU" sz="1400" spc="-1" strike="noStrike">
                  <a:solidFill>
                    <a:srgbClr val="333333"/>
                  </a:solidFill>
                  <a:latin typeface="Calibri"/>
                </a:rPr>
                <a:t>Видимость (в метрах) в здании через 1, 2, 3, 4, 5, 6, 8 и 10 минут 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333333"/>
                  </a:solidFill>
                  <a:latin typeface="Calibri"/>
                </a:rPr>
                <a:t>после начала пожара. 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365" name="Picture 4" descr=""/>
            <p:cNvPicPr/>
            <p:nvPr/>
          </p:nvPicPr>
          <p:blipFill>
            <a:blip r:embed="rId1"/>
            <a:stretch/>
          </p:blipFill>
          <p:spPr>
            <a:xfrm>
              <a:off x="1954800" y="357120"/>
              <a:ext cx="2680560" cy="131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Picture 5" descr=""/>
            <p:cNvPicPr/>
            <p:nvPr/>
          </p:nvPicPr>
          <p:blipFill>
            <a:blip r:embed="rId2"/>
            <a:stretch/>
          </p:blipFill>
          <p:spPr>
            <a:xfrm>
              <a:off x="4590720" y="357120"/>
              <a:ext cx="2680560" cy="129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Picture 6" descr=""/>
            <p:cNvPicPr/>
            <p:nvPr/>
          </p:nvPicPr>
          <p:blipFill>
            <a:blip r:embed="rId3"/>
            <a:stretch/>
          </p:blipFill>
          <p:spPr>
            <a:xfrm>
              <a:off x="7292160" y="379440"/>
              <a:ext cx="351000" cy="233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7" descr=""/>
            <p:cNvPicPr/>
            <p:nvPr/>
          </p:nvPicPr>
          <p:blipFill>
            <a:blip r:embed="rId4"/>
            <a:stretch/>
          </p:blipFill>
          <p:spPr>
            <a:xfrm>
              <a:off x="7292160" y="2790000"/>
              <a:ext cx="351000" cy="233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Picture 8" descr=""/>
            <p:cNvPicPr/>
            <p:nvPr/>
          </p:nvPicPr>
          <p:blipFill>
            <a:blip r:embed="rId5"/>
            <a:stretch/>
          </p:blipFill>
          <p:spPr>
            <a:xfrm>
              <a:off x="1922040" y="1686240"/>
              <a:ext cx="2689200" cy="127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Picture 9" descr=""/>
            <p:cNvPicPr/>
            <p:nvPr/>
          </p:nvPicPr>
          <p:blipFill>
            <a:blip r:embed="rId6"/>
            <a:stretch/>
          </p:blipFill>
          <p:spPr>
            <a:xfrm>
              <a:off x="4590720" y="1686240"/>
              <a:ext cx="2689200" cy="127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Picture 10" descr=""/>
            <p:cNvPicPr/>
            <p:nvPr/>
          </p:nvPicPr>
          <p:blipFill>
            <a:blip r:embed="rId7"/>
            <a:stretch/>
          </p:blipFill>
          <p:spPr>
            <a:xfrm>
              <a:off x="1922040" y="2992680"/>
              <a:ext cx="2680560" cy="129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Picture 11" descr=""/>
            <p:cNvPicPr/>
            <p:nvPr/>
          </p:nvPicPr>
          <p:blipFill>
            <a:blip r:embed="rId8"/>
            <a:stretch/>
          </p:blipFill>
          <p:spPr>
            <a:xfrm>
              <a:off x="4590720" y="2992680"/>
              <a:ext cx="2680560" cy="128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Picture 12" descr=""/>
            <p:cNvPicPr/>
            <p:nvPr/>
          </p:nvPicPr>
          <p:blipFill>
            <a:blip r:embed="rId9"/>
            <a:stretch/>
          </p:blipFill>
          <p:spPr>
            <a:xfrm>
              <a:off x="1922040" y="4299120"/>
              <a:ext cx="2671920" cy="128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13" descr=""/>
            <p:cNvPicPr/>
            <p:nvPr/>
          </p:nvPicPr>
          <p:blipFill>
            <a:blip r:embed="rId10"/>
            <a:stretch/>
          </p:blipFill>
          <p:spPr>
            <a:xfrm>
              <a:off x="4590720" y="4299120"/>
              <a:ext cx="2671920" cy="1274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Трехмерная модель части здания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76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80" name="Group 2"/>
          <p:cNvGrpSpPr/>
          <p:nvPr/>
        </p:nvGrpSpPr>
        <p:grpSpPr>
          <a:xfrm>
            <a:off x="934920" y="428760"/>
            <a:ext cx="7208640" cy="5786280"/>
            <a:chOff x="934920" y="428760"/>
            <a:chExt cx="7208640" cy="5786280"/>
          </a:xfrm>
        </p:grpSpPr>
        <p:pic>
          <p:nvPicPr>
            <p:cNvPr id="381" name="Picture 3" descr=""/>
            <p:cNvPicPr/>
            <p:nvPr/>
          </p:nvPicPr>
          <p:blipFill>
            <a:blip r:embed="rId1"/>
            <a:stretch/>
          </p:blipFill>
          <p:spPr>
            <a:xfrm>
              <a:off x="934920" y="428760"/>
              <a:ext cx="7110720" cy="53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Text Box 4"/>
            <p:cNvSpPr/>
            <p:nvPr/>
          </p:nvSpPr>
          <p:spPr>
            <a:xfrm>
              <a:off x="1021320" y="5846760"/>
              <a:ext cx="71222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333333"/>
                  </a:solidFill>
                  <a:latin typeface="Calibri"/>
                </a:rPr>
                <a:t> </a:t>
              </a:r>
              <a:r>
                <a:rPr b="0" lang="ru-RU" sz="1400" spc="-1" strike="noStrike">
                  <a:solidFill>
                    <a:srgbClr val="333333"/>
                  </a:solidFill>
                  <a:latin typeface="Calibri"/>
                </a:rPr>
                <a:t>Уровень видимости в здании в зависимости от высоты и от времени после начала пожара.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3" name="Line 5"/>
            <p:cNvSpPr/>
            <p:nvPr/>
          </p:nvSpPr>
          <p:spPr>
            <a:xfrm>
              <a:off x="1715400" y="2159280"/>
              <a:ext cx="6245640" cy="0"/>
            </a:xfrm>
            <a:prstGeom prst="line">
              <a:avLst/>
            </a:prstGeom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0560" y="56628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РЕЗУЛЬТАТЫ  РАСЧЕТА КРИТИЧЕСКОЙ ПРОДОЛЖИТЕЛЬНОСТИ ПОЖАРА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85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8" name="Rectangle 7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642960" y="1214280"/>
          <a:ext cx="8286840" cy="4927680"/>
        </p:xfrm>
        <a:graphic>
          <a:graphicData uri="http://schemas.openxmlformats.org/drawingml/2006/table">
            <a:tbl>
              <a:tblPr/>
              <a:tblGrid>
                <a:gridCol w="730080"/>
                <a:gridCol w="5078520"/>
                <a:gridCol w="2478240"/>
              </a:tblGrid>
              <a:tr h="1314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Этаж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Время достижения критического значения ОФП, мин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ОФП, определяющий </a:t>
                      </a: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ru-RU" sz="2000" spc="-1" strike="noStrike" baseline="-25000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нб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&gt; 10 </a:t>
                      </a: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мин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Задымление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&gt; 10 </a:t>
                      </a: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мин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Задымление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8.73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Задымление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6.05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Задымление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.52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Задымление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ЗАКЛЮЧЕНИЕ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91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3" name="Text Box 5"/>
          <p:cNvSpPr/>
          <p:nvPr/>
        </p:nvSpPr>
        <p:spPr>
          <a:xfrm>
            <a:off x="0" y="333360"/>
            <a:ext cx="9144000" cy="59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1.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Основные отличия современных методов расчета от нормативных состоят в учете </a:t>
            </a:r>
            <a:r>
              <a:rPr b="1" lang="ru-RU" sz="2000" spc="-1" strike="noStrike" u="sng">
                <a:solidFill>
                  <a:srgbClr val="333333"/>
                </a:solidFill>
                <a:uFillTx/>
                <a:latin typeface="Times New Roman"/>
              </a:rPr>
              <a:t>реальных параметров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возникновения, распространения и развития пожара, теплофизических и химических свойств конкретной горючей нагрузки и теплофизических свойств материала строительных конструкций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2. Разработанные методы расчета широко используются при решении практических задач пожаровзрывобезопасности. Результаты расчетов с использованием предложенных методов легли в основу технических условий пожарной безопасности ряда объектов промышленного и культурно-бытового назначения. Это позволило разработать </a:t>
            </a:r>
            <a:r>
              <a:rPr b="1" lang="ru-RU" sz="2000" spc="-1" strike="noStrike" u="sng">
                <a:solidFill>
                  <a:srgbClr val="333333"/>
                </a:solidFill>
                <a:uFillTx/>
                <a:latin typeface="Times New Roman"/>
              </a:rPr>
              <a:t>оптимальные варианты противопожарной защиты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с учетом обеспечения эффективности и приоритетности мероприятий по обеспечению безопасности людей при пожаре, технико-экономической целесообразности мероприятий, возможности доступа пожарных подразделений к очагу пожара и подачи средств пожаротушения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3. Особая ценность этих методов состоит в возможности их применения для объектов, на которые </a:t>
            </a:r>
            <a:r>
              <a:rPr b="1" lang="ru-RU" sz="2000" spc="-1" strike="noStrike" u="sng">
                <a:solidFill>
                  <a:srgbClr val="333333"/>
                </a:solidFill>
                <a:uFillTx/>
                <a:latin typeface="Times New Roman"/>
              </a:rPr>
              <a:t>отсутствуют нормативные методы расчета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уровня пожарной безопасности (атриумы, многофункциональные здания и комплексы, закрытые горнолыжные трассы, высотные здания и т.д.).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4c2b"/>
                </a:solidFill>
                <a:latin typeface="Times New Roman"/>
              </a:rPr>
              <a:t>Введение</a:t>
            </a:r>
            <a:br>
              <a:rPr sz="2800"/>
            </a:b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560" y="836280"/>
            <a:ext cx="9001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Целью расчетов по математическим моделям тепломассообмена при пожаре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является прогнозирование динамики изменения параметров газовой среды помещения (в первую очередь, </a:t>
            </a: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опасных факторов пожара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), прогрева ограждающих конструкций и теплового или иного воздействия пожара на людей и материальные ценности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Оценка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опасных факторов пожара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, взрыва для различных сценариев их развития осуществляется на основе сопоставления информации о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моделировании динамики опасных факторов пожара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на территории производственного объекта и прилегающей к нему территории и информации о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критических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для жизни и здоровья людей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значениях опасных факторов анализируемых пожара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, взрыва (статья 96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ФЗ № 123-ФЗ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Comment 4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ЗАКЛЮЧЕНИЕ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97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9" name="Text Box 5"/>
          <p:cNvSpPr/>
          <p:nvPr/>
        </p:nvSpPr>
        <p:spPr>
          <a:xfrm>
            <a:off x="0" y="0"/>
            <a:ext cx="9144000" cy="62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4.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Дальнейшее развитие математического моделирования тепломассообмена при пожаре неразрывно связано и в решающей степени определяется прогрессом в области </a:t>
            </a:r>
            <a:r>
              <a:rPr b="1" lang="ru-RU" sz="2000" spc="-1" strike="noStrike" u="sng">
                <a:solidFill>
                  <a:srgbClr val="333333"/>
                </a:solidFill>
                <a:uFillTx/>
                <a:latin typeface="Times New Roman"/>
              </a:rPr>
              <a:t>физического (экспериментального) моделирования пожара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. Повышение уровня достоверности расчетных методов будет определяться решающим образом качеством и количеством накопленной экспериментальной информации о характеристиках тепломассообмена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5. Наиболее перспективным направлением развития математического моделирования тепломассообмена при пожаре является дальнейшее совершенствование </a:t>
            </a:r>
            <a:r>
              <a:rPr b="1" lang="ru-RU" sz="2000" spc="-1" strike="noStrike" u="sng">
                <a:solidFill>
                  <a:srgbClr val="333333"/>
                </a:solidFill>
                <a:uFillTx/>
                <a:latin typeface="Times New Roman"/>
              </a:rPr>
              <a:t>полевого (дифференциального) подхода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. Интегральные и зонные модели термогазодинамики пожара будут в основном использоваться для оценочных расчетов или в случаях определения параметров пожаров в достаточно хорошо изученных экспериментально условиях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6. Основными направлениями совершенствования полевых моделей являются следующие: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развитие методов расчета параметров физико-химических процессов, происходящих </a:t>
            </a:r>
            <a:r>
              <a:rPr b="1" lang="ru-RU" sz="2000" spc="-1" strike="noStrike" u="sng">
                <a:solidFill>
                  <a:srgbClr val="333333"/>
                </a:solidFill>
                <a:uFillTx/>
                <a:latin typeface="Times New Roman"/>
              </a:rPr>
              <a:t>в пламенной зоне и внутри горючего материала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математических моделей </a:t>
            </a:r>
            <a:r>
              <a:rPr b="1" lang="ru-RU" sz="2000" spc="-1" strike="noStrike" u="sng">
                <a:solidFill>
                  <a:srgbClr val="333333"/>
                </a:solidFill>
                <a:uFillTx/>
                <a:latin typeface="Times New Roman"/>
              </a:rPr>
              <a:t>турбулентного тепломассообмена и лучистого теплопереноса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, а также взаимного влияния излучения и турбулентности;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сопряжение </a:t>
            </a:r>
            <a:r>
              <a:rPr b="1" lang="ru-RU" sz="2000" spc="-1" strike="noStrike" u="sng">
                <a:solidFill>
                  <a:srgbClr val="333333"/>
                </a:solidFill>
                <a:uFillTx/>
                <a:latin typeface="Times New Roman"/>
              </a:rPr>
              <a:t>тепловой и прочностной задач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для ограждающих конструкций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использование элементов </a:t>
            </a:r>
            <a:r>
              <a:rPr b="1" lang="ru-RU" sz="2000" spc="-1" strike="noStrike" u="sng">
                <a:solidFill>
                  <a:srgbClr val="333333"/>
                </a:solidFill>
                <a:uFillTx/>
                <a:latin typeface="Times New Roman"/>
              </a:rPr>
              <a:t>вероятностного подхода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1" name="Rectangle 7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14200" y="999720"/>
            <a:ext cx="87156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339480" indent="-339480" algn="just">
              <a:spcBef>
                <a:spcPts val="601"/>
              </a:spcBef>
              <a:buClr>
                <a:srgbClr val="578963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Опасные факторы пожара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- факторы пожара, воздействие которых может привести к травме, отравлению или гибели человека и (или) к материальному ущербу (статья 2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ФЗ № 123-ФЗ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Технический регламент о требованиях пожарной безопасности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”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). К опасным факторам пожара, воздействующим на людей и имущество, относятся (статья 9)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1) пламя и искры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2) тепловой поток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3) повышенная температура окружающей среды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4) повышенная концентрация токсичных продуктов горения и термического разложения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5) пониженная концентрация кислорода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6) снижение видимости в дыму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Comment 4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2508840" y="357120"/>
            <a:ext cx="470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Опасные факторы пожара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14200" y="1356840"/>
            <a:ext cx="87156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В количественном отношении каждый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опасный фактор пожара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характеризуется одной или несколькими величинами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1) пламя и искры (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г, м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²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;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ψ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кг·сˉ¹;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пож, Вт;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ψ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кг·сˉ¹;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ψ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кг·сˉ¹;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ψ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Нп·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м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²·кгˉ¹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2) тепловой поток (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q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, Вт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·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м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ˉ²)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3) повышенная температура окружающей среды (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°С;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, К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4) повышенная концентрация токсичных продуктов горения и термического разложения (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ρ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кг·мˉ³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; х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5) пониженная концентрация кислорода (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ρ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кг·мˉ³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; х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6) снижение видимости в дыму (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µ, Нп·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м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ˉ¹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bda9"/>
                </a:solidFill>
                <a:latin typeface="Times New Roman"/>
              </a:rPr>
              <a:t>L</a:t>
            </a:r>
            <a:r>
              <a:rPr b="0" lang="ru-RU" sz="1600" spc="-1" strike="noStrike">
                <a:solidFill>
                  <a:srgbClr val="a9bda9"/>
                </a:solidFill>
                <a:latin typeface="Times New Roman"/>
              </a:rPr>
              <a:t>вид = </a:t>
            </a:r>
            <a:r>
              <a:rPr b="0" lang="ru-RU" sz="2000" spc="-1" strike="noStrike">
                <a:solidFill>
                  <a:srgbClr val="a9bda9"/>
                </a:solidFill>
                <a:latin typeface="Times New Roman"/>
              </a:rPr>
              <a:t>2,38</a:t>
            </a:r>
            <a:r>
              <a:rPr b="0" lang="en-US" sz="1600" spc="-1" strike="noStrike">
                <a:solidFill>
                  <a:srgbClr val="a9bda9"/>
                </a:solidFill>
                <a:latin typeface="Times New Roman"/>
              </a:rPr>
              <a:t>/</a:t>
            </a:r>
            <a:r>
              <a:rPr b="0" lang="ru-RU" sz="2000" spc="-1" strike="noStrike">
                <a:solidFill>
                  <a:srgbClr val="a9bda9"/>
                </a:solidFill>
                <a:latin typeface="Times New Roman"/>
                <a:ea typeface="Times New Roman"/>
              </a:rPr>
              <a:t> µ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Comment 4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642960" y="214200"/>
            <a:ext cx="785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Величины, характеризующие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опасные факторы пожара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14200" y="999720"/>
            <a:ext cx="8715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601"/>
              </a:spcBef>
              <a:buClr>
                <a:srgbClr val="5789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33"/>
                </a:solidFill>
                <a:latin typeface="Times New Roman"/>
              </a:rPr>
              <a:t>Т</a:t>
            </a:r>
            <a:r>
              <a:rPr b="0" lang="ru-RU" sz="2400" spc="-1" strike="noStrike" baseline="-25000">
                <a:solidFill>
                  <a:srgbClr val="333333"/>
                </a:solidFill>
                <a:latin typeface="Times New Roman"/>
              </a:rPr>
              <a:t>кр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– критическая для жизни людей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температура среды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в помещении при пожаре, </a:t>
            </a:r>
            <a:r>
              <a:rPr b="0" i="1" lang="ru-RU" sz="2400" spc="-1" strike="noStrike">
                <a:solidFill>
                  <a:srgbClr val="333333"/>
                </a:solidFill>
                <a:latin typeface="Times New Roman"/>
              </a:rPr>
              <a:t>Т</a:t>
            </a:r>
            <a:r>
              <a:rPr b="0" lang="ru-RU" sz="2400" spc="-1" strike="noStrike" baseline="-25000">
                <a:solidFill>
                  <a:srgbClr val="333333"/>
                </a:solidFill>
                <a:latin typeface="Times New Roman"/>
              </a:rPr>
              <a:t>кр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= 343 К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33"/>
                </a:solidFill>
                <a:latin typeface="Times New Roman"/>
              </a:rPr>
              <a:t>Х</a:t>
            </a:r>
            <a:r>
              <a:rPr b="0" i="1" lang="ru-RU" sz="2400" spc="-1" strike="noStrike" baseline="-25000">
                <a:solidFill>
                  <a:srgbClr val="333333"/>
                </a:solidFill>
                <a:latin typeface="Times New Roman"/>
              </a:rPr>
              <a:t>крi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– критическая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концентрация (парциальная плотность) 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i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-го газа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для жизни человека: окись углерода </a:t>
            </a:r>
            <a:r>
              <a:rPr b="0" i="1" lang="ru-RU" sz="2400" spc="-1" strike="noStrike">
                <a:solidFill>
                  <a:srgbClr val="333333"/>
                </a:solidFill>
                <a:latin typeface="Times New Roman"/>
              </a:rPr>
              <a:t>Х</a:t>
            </a:r>
            <a:r>
              <a:rPr b="1" lang="ru-RU" sz="2400" spc="-1" strike="noStrike" baseline="-25000">
                <a:solidFill>
                  <a:srgbClr val="333333"/>
                </a:solidFill>
                <a:latin typeface="Times New Roman"/>
              </a:rPr>
              <a:t>СО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= 0,00116 кг/м</a:t>
            </a:r>
            <a:r>
              <a:rPr b="0" lang="ru-RU" sz="2400" spc="-1" strike="noStrike" baseline="30000">
                <a:solidFill>
                  <a:srgbClr val="333333"/>
                </a:solidFill>
                <a:latin typeface="Times New Roman"/>
              </a:rPr>
              <a:t>з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; двуокись углерода </a:t>
            </a:r>
            <a:r>
              <a:rPr b="0" i="1" lang="ru-RU" sz="24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0" lang="ru-RU" sz="2400" spc="-1" strike="noStrike" baseline="-25000">
                <a:solidFill>
                  <a:srgbClr val="333333"/>
                </a:solidFill>
                <a:latin typeface="Times New Roman"/>
              </a:rPr>
              <a:t>СО2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= 0,11 кг/м</a:t>
            </a:r>
            <a:r>
              <a:rPr b="0" lang="ru-RU" sz="2400" spc="-1" strike="noStrike" baseline="30000">
                <a:solidFill>
                  <a:srgbClr val="333333"/>
                </a:solidFill>
                <a:latin typeface="Times New Roman"/>
              </a:rPr>
              <a:t>з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; хлористый водород </a:t>
            </a:r>
            <a:r>
              <a:rPr b="0" i="1" lang="ru-RU" sz="2400" spc="-1" strike="noStrike">
                <a:solidFill>
                  <a:srgbClr val="333333"/>
                </a:solidFill>
                <a:latin typeface="Times New Roman"/>
              </a:rPr>
              <a:t>Х</a:t>
            </a:r>
            <a:r>
              <a:rPr b="0" lang="ru-RU" sz="2400" spc="-1" strike="noStrike" baseline="-25000">
                <a:solidFill>
                  <a:srgbClr val="333333"/>
                </a:solidFill>
                <a:latin typeface="Times New Roman"/>
              </a:rPr>
              <a:t>НСl</a:t>
            </a:r>
            <a:r>
              <a:rPr b="1" lang="ru-RU" sz="24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= 0,023</a:t>
            </a:r>
            <a:r>
              <a:rPr b="0" lang="ru-RU" sz="2400" spc="-1" strike="noStrike">
                <a:solidFill>
                  <a:srgbClr val="333333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10</a:t>
            </a:r>
            <a:r>
              <a:rPr b="0" lang="ru-RU" sz="2400" spc="-1" strike="noStrike" baseline="30000">
                <a:solidFill>
                  <a:srgbClr val="333333"/>
                </a:solidFill>
                <a:latin typeface="Times New Roman"/>
              </a:rPr>
              <a:t>-3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кг/м</a:t>
            </a:r>
            <a:r>
              <a:rPr b="0" lang="ru-RU" sz="2400" spc="-1" strike="noStrike" baseline="30000">
                <a:solidFill>
                  <a:srgbClr val="333333"/>
                </a:solidFill>
                <a:latin typeface="Times New Roman"/>
              </a:rPr>
              <a:t>з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;  цианистый водород </a:t>
            </a:r>
            <a:r>
              <a:rPr b="0" i="1" lang="ru-RU" sz="2400" spc="-1" strike="noStrike">
                <a:solidFill>
                  <a:srgbClr val="333333"/>
                </a:solidFill>
                <a:latin typeface="Times New Roman"/>
              </a:rPr>
              <a:t>Х</a:t>
            </a:r>
            <a:r>
              <a:rPr b="0" lang="ru-RU" sz="2400" spc="-1" strike="noStrike" baseline="-25000">
                <a:solidFill>
                  <a:srgbClr val="333333"/>
                </a:solidFill>
                <a:latin typeface="Times New Roman"/>
              </a:rPr>
              <a:t>НСN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= 0,2</a:t>
            </a:r>
            <a:r>
              <a:rPr b="0" lang="ru-RU" sz="2400" spc="-1" strike="noStrike">
                <a:solidFill>
                  <a:srgbClr val="333333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10</a:t>
            </a:r>
            <a:r>
              <a:rPr b="0" lang="ru-RU" sz="2400" spc="-1" strike="noStrike" baseline="30000">
                <a:solidFill>
                  <a:srgbClr val="333333"/>
                </a:solidFill>
                <a:latin typeface="Times New Roman"/>
              </a:rPr>
              <a:t>-3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кг/м</a:t>
            </a:r>
            <a:r>
              <a:rPr b="0" lang="ru-RU" sz="2400" spc="-1" strike="noStrike" baseline="30000">
                <a:solidFill>
                  <a:srgbClr val="333333"/>
                </a:solidFill>
                <a:latin typeface="Times New Roman"/>
              </a:rPr>
              <a:t>з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; фосген </a:t>
            </a:r>
            <a:r>
              <a:rPr b="0" i="1" lang="ru-RU" sz="24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0" lang="ru-RU" sz="2400" spc="-1" strike="noStrike" baseline="-25000">
                <a:solidFill>
                  <a:srgbClr val="333333"/>
                </a:solidFill>
                <a:latin typeface="Times New Roman"/>
              </a:rPr>
              <a:t>СОСl2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= 0,2</a:t>
            </a:r>
            <a:r>
              <a:rPr b="0" lang="ru-RU" sz="2400" spc="-1" strike="noStrike">
                <a:solidFill>
                  <a:srgbClr val="333333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10</a:t>
            </a:r>
            <a:r>
              <a:rPr b="0" lang="ru-RU" sz="2400" spc="-1" strike="noStrike" baseline="30000">
                <a:solidFill>
                  <a:srgbClr val="333333"/>
                </a:solidFill>
                <a:latin typeface="Times New Roman"/>
              </a:rPr>
              <a:t>-3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кг/м</a:t>
            </a:r>
            <a:r>
              <a:rPr b="0" lang="ru-RU" sz="2400" spc="-1" strike="noStrike" baseline="30000">
                <a:solidFill>
                  <a:srgbClr val="333333"/>
                </a:solidFill>
                <a:latin typeface="Times New Roman"/>
              </a:rPr>
              <a:t>з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; окислы азота X</a:t>
            </a:r>
            <a:r>
              <a:rPr b="0" lang="ru-RU" sz="2400" spc="-1" strike="noStrike" baseline="-25000">
                <a:solidFill>
                  <a:srgbClr val="333333"/>
                </a:solidFill>
                <a:latin typeface="Times New Roman"/>
              </a:rPr>
              <a:t>NO2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= 1</a:t>
            </a:r>
            <a:r>
              <a:rPr b="0" lang="ru-RU" sz="2400" spc="-1" strike="noStrike">
                <a:solidFill>
                  <a:srgbClr val="333333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10</a:t>
            </a:r>
            <a:r>
              <a:rPr b="0" lang="ru-RU" sz="2400" spc="-1" strike="noStrike" baseline="30000">
                <a:solidFill>
                  <a:srgbClr val="333333"/>
                </a:solidFill>
                <a:latin typeface="Times New Roman"/>
              </a:rPr>
              <a:t>-3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кг/м</a:t>
            </a:r>
            <a:r>
              <a:rPr b="0" lang="ru-RU" sz="2400" spc="-1" strike="noStrike" baseline="30000">
                <a:solidFill>
                  <a:srgbClr val="333333"/>
                </a:solidFill>
                <a:latin typeface="Times New Roman"/>
              </a:rPr>
              <a:t>з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; сероводород </a:t>
            </a:r>
            <a:r>
              <a:rPr b="0" i="1" lang="ru-RU" sz="24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0" lang="ru-RU" sz="2400" spc="-1" strike="noStrike" baseline="-25000">
                <a:solidFill>
                  <a:srgbClr val="333333"/>
                </a:solidFill>
                <a:latin typeface="Times New Roman"/>
              </a:rPr>
              <a:t>H2S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= 1,1</a:t>
            </a:r>
            <a:r>
              <a:rPr b="0" lang="ru-RU" sz="2400" spc="-1" strike="noStrike">
                <a:solidFill>
                  <a:srgbClr val="333333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10</a:t>
            </a:r>
            <a:r>
              <a:rPr b="0" lang="ru-RU" sz="2400" spc="-1" strike="noStrike" baseline="30000">
                <a:solidFill>
                  <a:srgbClr val="333333"/>
                </a:solidFill>
                <a:latin typeface="Times New Roman"/>
              </a:rPr>
              <a:t>-3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кг/м</a:t>
            </a:r>
            <a:r>
              <a:rPr b="0" lang="ru-RU" sz="2400" spc="-1" strike="noStrike" baseline="30000">
                <a:solidFill>
                  <a:srgbClr val="333333"/>
                </a:solidFill>
                <a:latin typeface="Times New Roman"/>
              </a:rPr>
              <a:t>з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редельная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концентрация (парциальная плотность) кислорода </a:t>
            </a:r>
            <a:r>
              <a:rPr b="0" i="1" lang="ru-RU" sz="24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0" lang="ru-RU" sz="2400" spc="-1" strike="noStrike" baseline="-25000">
                <a:solidFill>
                  <a:srgbClr val="333333"/>
                </a:solidFill>
                <a:latin typeface="Times New Roman"/>
              </a:rPr>
              <a:t>О2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= 0,226 кг/м</a:t>
            </a:r>
            <a:r>
              <a:rPr b="0" lang="ru-RU" sz="2400" spc="-1" strike="noStrike" baseline="30000">
                <a:solidFill>
                  <a:srgbClr val="333333"/>
                </a:solidFill>
                <a:latin typeface="Times New Roman"/>
              </a:rPr>
              <a:t>з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;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редельная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дальность видимости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в дыму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µ</a:t>
            </a:r>
            <a:r>
              <a:rPr b="0" lang="ru-RU" sz="2400" spc="-1" strike="noStrike" baseline="-25000">
                <a:solidFill>
                  <a:srgbClr val="333333"/>
                </a:solidFill>
                <a:latin typeface="Times New Roman"/>
              </a:rPr>
              <a:t>кр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= 20 м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Критическая величина плотности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теплового потока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для человека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q</a:t>
            </a:r>
            <a:r>
              <a:rPr b="0" lang="ru-RU" sz="2400" spc="-1" strike="noStrike" baseline="-25000">
                <a:solidFill>
                  <a:srgbClr val="333333"/>
                </a:solidFill>
                <a:latin typeface="Times New Roman"/>
              </a:rPr>
              <a:t>кр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= 1400 Вт/м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²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проект методики оценки пожарного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риска для объектов общественного назначения)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Прямоугольник 3"/>
          <p:cNvSpPr/>
          <p:nvPr/>
        </p:nvSpPr>
        <p:spPr>
          <a:xfrm>
            <a:off x="1071720" y="285840"/>
            <a:ext cx="72151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Критические значения опасных факторов пожара        (СП 11.13130.2009, приложение А) </a:t>
            </a:r>
            <a:br>
              <a:rPr sz="1000"/>
            </a:br>
            <a:br>
              <a:rPr sz="1000"/>
            </a:b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14200" y="475920"/>
            <a:ext cx="8715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Основные задачи расчета динамики ОФП: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критическая продолжительность пожара (необходимое время эвакуации);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фактические пределы огнестойкости строительных конструкций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время срабатывания тепловых, дымовых, концентрационных, радиационных и комбинированных пожарных извещателей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термогазодинамическая картина пожара (обстановка на пожаре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безопасные расстояния (для эвакуации людей и расстановки оборудования)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0" y="475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Полученные характеристики динамики ОФП применяются при решении следующих задач пожарной безопасности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: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анализ объемно-планировочных и конструктивных решений проектируемых, реконструируемых и существующих зданий и сооружений;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выбор и оптимизация толщин огнезащитных покрытий строительных конструкций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роектирование автоматических систем пожарной сигнализации и автоматического пожаротушения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роведение пожарно-технических экспертиз и расследований пожаров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разработка планов эвакуации и пожаротушения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Comment 3"/>
          <p:cNvSpPr/>
          <p:nvPr/>
        </p:nvSpPr>
        <p:spPr>
          <a:xfrm>
            <a:off x="0" y="6330960"/>
            <a:ext cx="9128160" cy="520200"/>
          </a:xfrm>
          <a:prstGeom prst="rect">
            <a:avLst/>
          </a:prstGeom>
          <a:solidFill>
            <a:srgbClr val="fcfdc6"/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Академия Государственной противопожарной службы МЧС России, Москв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8T11:50:54Z</dcterms:created>
  <dc:creator>Пузач Сергей Викторович</dc:creator>
  <dc:description/>
  <dc:language>en-US</dc:language>
  <cp:lastModifiedBy>Лев Николаевич Григорьев</cp:lastModifiedBy>
  <dcterms:modified xsi:type="dcterms:W3CDTF">2010-05-12T05:45:01Z</dcterms:modified>
  <cp:revision>236</cp:revision>
  <dc:subject/>
  <dc:title>Математическое моделирование тепломассообмена  при пожаре в помещении со сложной геометрией</dc:title>
</cp:coreProperties>
</file>